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F956-D2E7-4BDF-B24C-5D1508972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0E3E-B2DF-490E-AEC7-FB5664A01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D842-FDCF-4F54-AB42-6C64C490B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4E16-871B-415A-A8D7-91D7983B9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33F76-E17F-42FA-AB19-B091284B9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40635-2660-4DD1-9A1F-254DA04A8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D8DE5-6E3E-40F7-8762-11AD791E4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5C2CC-94D9-4F8F-9771-4AECC18D0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74D77-3911-4FE1-AF58-7D0D82ABC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1FA5D-73F3-4F13-979B-75A1CD9A9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5F21D-DA9F-43E9-BFB2-F5A20B65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5955-D6A5-4EA6-BC0B-9CA7F3F51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37B1D-5C00-4C31-A49B-429DF918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E9C95-1117-4913-AED7-75943B97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0EB57-7A01-4E55-B8E0-68C68A146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11013-4C61-4170-9C3B-1B241BC7A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B63EE-BD5F-4054-BD57-D180163F5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B191-5997-4A80-BA4E-693EC5A07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6B52-8124-400E-8F59-20BBC3122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2214-71C0-403F-BCB2-8D57B8E46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B662-1FE1-4832-8EE1-D484C17C9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41B9-5617-41AD-ABDA-C6A536B8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442E-BFE5-4628-B341-F135EEC5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EFE7-8351-4838-8428-D2493B13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D6C0B-9E17-442D-A129-2943D4E011A3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7CB48-052C-44CB-A855-94B64833553B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000" spc="-1" strike="noStrike">
                <a:solidFill>
                  <a:srgbClr val="003399"/>
                </a:solidFill>
                <a:latin typeface="Garamond"/>
              </a:rPr>
              <a:t>The Level 2 Exam</a:t>
            </a:r>
            <a:endParaRPr b="0" lang="en-US" sz="5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200" spc="-1" strike="noStrike" u="sng">
                <a:solidFill>
                  <a:srgbClr val="003399"/>
                </a:solidFill>
                <a:uFillTx/>
                <a:latin typeface="Garamond"/>
              </a:rPr>
              <a:t>How you can study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Identify the elements in the scri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1280" y="1773360"/>
            <a:ext cx="7848360" cy="45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Identify and describe what it the script focussing on. </a:t>
            </a:r>
            <a:r>
              <a:rPr b="0" i="1" lang="en-NZ" sz="1800" spc="-1" strike="noStrike">
                <a:solidFill>
                  <a:srgbClr val="000000"/>
                </a:solidFill>
                <a:latin typeface="Tahoma"/>
              </a:rPr>
              <a:t>Is it a relationship or a proble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Identify and describe the action line.  </a:t>
            </a:r>
            <a:r>
              <a:rPr b="0" i="1" lang="en-NZ" sz="1800" spc="-1" strike="noStrike">
                <a:solidFill>
                  <a:srgbClr val="000000"/>
                </a:solidFill>
                <a:latin typeface="Tahoma"/>
              </a:rPr>
              <a:t>What </a:t>
            </a:r>
            <a:r>
              <a:rPr b="0" i="1" lang="en-NZ" sz="1800" spc="-1" strike="noStrike" u="sng">
                <a:solidFill>
                  <a:srgbClr val="000000"/>
                </a:solidFill>
                <a:uFillTx/>
                <a:latin typeface="Tahoma"/>
              </a:rPr>
              <a:t>actually happens</a:t>
            </a:r>
            <a:r>
              <a:rPr b="0" i="1" lang="en-NZ" sz="1800" spc="-1" strike="noStrike">
                <a:solidFill>
                  <a:srgbClr val="000000"/>
                </a:solidFill>
                <a:latin typeface="Tahoma"/>
              </a:rPr>
              <a:t> in the scen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Identify and describe 2 roles. </a:t>
            </a:r>
            <a:r>
              <a:rPr b="0" i="1" lang="en-NZ" sz="1800" spc="-1" strike="noStrike">
                <a:solidFill>
                  <a:srgbClr val="000000"/>
                </a:solidFill>
                <a:latin typeface="Tahoma"/>
              </a:rPr>
              <a:t>Think about status and their relationship too.  How are they similar?  How are they different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Identify and describe the tension in this scene.  </a:t>
            </a:r>
            <a:r>
              <a:rPr b="0" i="1" lang="en-NZ" sz="1800" spc="-1" strike="noStrike">
                <a:solidFill>
                  <a:srgbClr val="000000"/>
                </a:solidFill>
                <a:latin typeface="Tahoma"/>
              </a:rPr>
              <a:t>What are the two factors that cause tensio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Identify and describe the time the scene is set i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How could space be used to create the setting of the scene?  </a:t>
            </a:r>
            <a:r>
              <a:rPr b="0" i="1" lang="en-NZ" sz="1800" spc="-1" strike="noStrike">
                <a:solidFill>
                  <a:srgbClr val="000000"/>
                </a:solidFill>
                <a:latin typeface="Tahoma"/>
              </a:rPr>
              <a:t>The stage directions may even tell you th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Identify and describe the mood of the scene.  </a:t>
            </a:r>
            <a:r>
              <a:rPr b="0" i="1" lang="en-NZ" sz="1800" spc="-1" strike="noStrike">
                <a:solidFill>
                  <a:srgbClr val="000000"/>
                </a:solidFill>
                <a:latin typeface="Tahoma"/>
              </a:rPr>
              <a:t>NOT the mood of one character; the mood the AUDIENCE feel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Identify any symbols and describe how they are used and to what effec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125"/>
              </a:spcBef>
              <a:buClr>
                <a:srgbClr val="4c6d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200" spc="-1" strike="noStrike" u="sng">
                <a:solidFill>
                  <a:srgbClr val="003399"/>
                </a:solidFill>
                <a:uFillTx/>
                <a:latin typeface="Garamond"/>
              </a:rPr>
              <a:t>How you can study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Identify the beats in the scrip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Mark the changes in beat with a double slas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Identify a line in the script where the beat chang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Describe the change in beat in terms of what the character </a:t>
            </a:r>
            <a:r>
              <a:rPr b="1" lang="en-NZ" sz="2600" spc="-1" strike="noStrike">
                <a:solidFill>
                  <a:srgbClr val="000000"/>
                </a:solidFill>
                <a:latin typeface="Arial"/>
              </a:rPr>
              <a:t>used to want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 and what they </a:t>
            </a:r>
            <a:r>
              <a:rPr b="1" lang="en-NZ" sz="2600" spc="-1" strike="noStrike">
                <a:solidFill>
                  <a:srgbClr val="000000"/>
                </a:solidFill>
                <a:latin typeface="Arial"/>
              </a:rPr>
              <a:t>now wa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Explain what this change in beat suggests about this character, or their relationshi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Explain how this links to the overall ideas of the play; hint, look at the elements you already identifi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200" spc="-1" strike="noStrike" u="sng">
                <a:solidFill>
                  <a:srgbClr val="003399"/>
                </a:solidFill>
                <a:uFillTx/>
                <a:latin typeface="Garamond"/>
              </a:rPr>
              <a:t>How you can study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0099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" spc="-1" strike="noStrike">
                <a:solidFill>
                  <a:srgbClr val="000000"/>
                </a:solidFill>
                <a:latin typeface="Arial"/>
              </a:rPr>
              <a:t>Identify</a:t>
            </a: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 a stage direction </a:t>
            </a:r>
            <a:r>
              <a:rPr b="0" i="1" lang="en-NZ" sz="3000" spc="-1" strike="noStrike">
                <a:solidFill>
                  <a:srgbClr val="000000"/>
                </a:solidFill>
                <a:latin typeface="Arial"/>
              </a:rPr>
              <a:t>usually shown in ital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99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" spc="-1" strike="noStrike">
                <a:solidFill>
                  <a:srgbClr val="000000"/>
                </a:solidFill>
                <a:latin typeface="Arial"/>
              </a:rPr>
              <a:t>Describe</a:t>
            </a: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 what will happen to the look of the stage when this happe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99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" spc="-1" strike="noStrike">
                <a:solidFill>
                  <a:srgbClr val="000000"/>
                </a:solidFill>
                <a:latin typeface="Arial"/>
              </a:rPr>
              <a:t>Explain </a:t>
            </a: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by linking this change to an element ie does it create focus on something?  Does it show us something new about a role?  Does it create a particular moo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200" spc="-1" strike="noStrike" u="sng">
                <a:solidFill>
                  <a:srgbClr val="003399"/>
                </a:solidFill>
                <a:uFillTx/>
                <a:latin typeface="Garamond"/>
              </a:rPr>
              <a:t>How you can study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Choose a role in the scri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Pick two beats.  One that changes after the oth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2633760"/>
            <a:ext cx="784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Draw the body position you would use in one of those lines to show the beat that you have identifi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Annotate around that drawing what other drama techniques you would use to create that ‘beat’ (or want or driv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A gesture you would 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Your facial expr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Quote the line you are saying and explain how you would use vocal techniques to say it to create the dr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Do steps 1 and 2 again, but with the beat directly follow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Write a paragraph that explains what the audience will understand about your character through the performance.  Make a link to the ‘world of the play’ at the end of i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200" spc="-1" strike="noStrike" u="sng">
                <a:solidFill>
                  <a:srgbClr val="003399"/>
                </a:solidFill>
                <a:uFillTx/>
                <a:latin typeface="Garamond"/>
              </a:rPr>
              <a:t>How you can study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Choose a technology you could use in a moment in the scrip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1280" y="2349360"/>
            <a:ext cx="7848360" cy="40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Identify the technology you would use AND  the line in the script you would use it 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Describe what the stage would look like/sound like before the technology change and then once it has been us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Explain what the effect of the use of technology ie link it to an element does it create focus on something or someone?  Does it tell us someone about a role?  What tension does it create?  What mood does it creat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ahoma"/>
              </a:rPr>
              <a:t>Link the use of technology to the world of the play.  What main idea in the play does it highlight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Garamond"/>
              </a:rPr>
              <a:t>In Question Two candidates will </a:t>
            </a:r>
            <a:r>
              <a:rPr b="1" lang="en-US" sz="2400" spc="-1" strike="noStrike">
                <a:solidFill>
                  <a:srgbClr val="003399"/>
                </a:solidFill>
                <a:latin typeface="Garamond"/>
              </a:rPr>
              <a:t>respond to and make judgements about a live theatre performance</a:t>
            </a:r>
            <a:r>
              <a:rPr b="0" lang="en-US" sz="2400" spc="-1" strike="noStrike">
                <a:solidFill>
                  <a:srgbClr val="003399"/>
                </a:solidFill>
                <a:latin typeface="Garamond"/>
              </a:rPr>
              <a:t> by:</a:t>
            </a:r>
            <a:endParaRPr b="0" lang="en-US" sz="2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ntifying the theatre form of the performan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ing how aspects of the performance were typical or atypical of the form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bing the use of drama techniques and technologies in the performan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200" spc="-1" strike="noStrike">
                <a:solidFill>
                  <a:srgbClr val="003399"/>
                </a:solidFill>
                <a:latin typeface="Garamond"/>
              </a:rPr>
              <a:t>What this means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You need to know what theatre form the performance ‘fits into’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You need to be able to identify the features of that theatre form and where they were seen in your performa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You need to be able to identify, describe and make links to the effect of drama techniques and technolog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You need to be able to articulate the ideas that the play was trying to show and how the use of the theatre form, techniques and technologies created these idea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3399"/>
                </a:solidFill>
                <a:latin typeface="Garamond"/>
              </a:rPr>
              <a:t>How you can study – theatre form of the live performance</a:t>
            </a:r>
            <a:endParaRPr b="0" lang="en-US" sz="3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Identify one of the theatre forms your ‘live theatre performance’ fits int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Identify all of the features of that theatre form in bullet  poin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200" spc="-1" strike="noStrike">
                <a:solidFill>
                  <a:srgbClr val="003399"/>
                </a:solidFill>
                <a:latin typeface="Garamond"/>
              </a:rPr>
              <a:t>How you can study – theatre form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Create a diagram that identifies the features of your theatre for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It should have links on it to where you saw these features in the live performance that you saw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Those links should then go to a box where you explain how all of these things you saw in your live performance created a single idea/theme in your performan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3399"/>
                </a:solidFill>
                <a:latin typeface="Garamond"/>
              </a:rPr>
              <a:t>Will it look like this?  What will the next box look like?</a:t>
            </a:r>
            <a:endParaRPr b="0" lang="en-US" sz="3800" spc="-1" strike="noStrike">
              <a:solidFill>
                <a:srgbClr val="003399"/>
              </a:solidFill>
              <a:latin typeface="Garamond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57200" y="1600200"/>
            <a:ext cx="8228880" cy="2907720"/>
            <a:chOff x="457200" y="1600200"/>
            <a:chExt cx="8228880" cy="2907720"/>
          </a:xfrm>
        </p:grpSpPr>
        <p:cxnSp>
          <p:nvCxnSpPr>
            <p:cNvPr id="131" name="_s50200"/>
            <p:cNvCxnSpPr>
              <a:stCxn id="132" idx="0"/>
              <a:endCxn id="133" idx="2"/>
            </p:cNvCxnSpPr>
            <p:nvPr/>
          </p:nvCxnSpPr>
          <p:spPr>
            <a:xfrm flipV="1">
              <a:off x="7451640" y="3417120"/>
              <a:ext cx="3240" cy="363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4" name="_s50196"/>
            <p:cNvCxnSpPr>
              <a:stCxn id="135" idx="0"/>
              <a:endCxn id="136" idx="2"/>
            </p:cNvCxnSpPr>
            <p:nvPr/>
          </p:nvCxnSpPr>
          <p:spPr>
            <a:xfrm flipV="1">
              <a:off x="4571280" y="3417120"/>
              <a:ext cx="3240" cy="363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7" name="_s50192"/>
            <p:cNvCxnSpPr>
              <a:stCxn id="138" idx="0"/>
              <a:endCxn id="139" idx="2"/>
            </p:cNvCxnSpPr>
            <p:nvPr/>
          </p:nvCxnSpPr>
          <p:spPr>
            <a:xfrm flipV="1">
              <a:off x="1690920" y="3417120"/>
              <a:ext cx="3240" cy="363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50188"/>
            <p:cNvCxnSpPr>
              <a:stCxn id="133" idx="0"/>
              <a:endCxn id="141" idx="2"/>
            </p:cNvCxnSpPr>
            <p:nvPr/>
          </p:nvCxnSpPr>
          <p:spPr>
            <a:xfrm flipV="1" rot="16200000">
              <a:off x="5829480" y="1067760"/>
              <a:ext cx="363960" cy="2880720"/>
            </a:xfrm>
            <a:prstGeom prst="bentConnector3">
              <a:avLst>
                <a:gd name="adj1" fmla="val 2376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2" name="_s50187"/>
            <p:cNvCxnSpPr>
              <a:stCxn id="136" idx="0"/>
              <a:endCxn id="141" idx="2"/>
            </p:cNvCxnSpPr>
            <p:nvPr/>
          </p:nvCxnSpPr>
          <p:spPr>
            <a:xfrm flipV="1">
              <a:off x="4571280" y="2326320"/>
              <a:ext cx="3240" cy="363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3" name="_s50186"/>
            <p:cNvCxnSpPr>
              <a:stCxn id="139" idx="0"/>
              <a:endCxn id="141" idx="2"/>
            </p:cNvCxnSpPr>
            <p:nvPr/>
          </p:nvCxnSpPr>
          <p:spPr>
            <a:xfrm flipH="1" flipV="1" rot="5400000">
              <a:off x="2949480" y="1068120"/>
              <a:ext cx="363960" cy="2880720"/>
            </a:xfrm>
            <a:prstGeom prst="bentConnector3">
              <a:avLst>
                <a:gd name="adj1" fmla="val 2376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1" name="_s50182"/>
            <p:cNvSpPr/>
            <p:nvPr/>
          </p:nvSpPr>
          <p:spPr>
            <a:xfrm>
              <a:off x="3337200" y="1600200"/>
              <a:ext cx="2468520" cy="7268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900" spc="-1" strike="noStrike">
                  <a:solidFill>
                    <a:srgbClr val="000000"/>
                  </a:solidFill>
                  <a:latin typeface="Arial"/>
                </a:rPr>
                <a:t>My theatre form i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_s50183"/>
            <p:cNvSpPr/>
            <p:nvPr/>
          </p:nvSpPr>
          <p:spPr>
            <a:xfrm>
              <a:off x="457200" y="2690640"/>
              <a:ext cx="2468520" cy="7268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900" spc="-1" strike="noStrike">
                  <a:solidFill>
                    <a:srgbClr val="000000"/>
                  </a:solidFill>
                  <a:latin typeface="Arial"/>
                </a:rPr>
                <a:t>Feature on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_s50184"/>
            <p:cNvSpPr/>
            <p:nvPr/>
          </p:nvSpPr>
          <p:spPr>
            <a:xfrm>
              <a:off x="3337200" y="2690640"/>
              <a:ext cx="2468520" cy="7268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900" spc="-1" strike="noStrike">
                  <a:solidFill>
                    <a:srgbClr val="000000"/>
                  </a:solidFill>
                  <a:latin typeface="Arial"/>
                </a:rPr>
                <a:t>Feature two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_s50185"/>
            <p:cNvSpPr/>
            <p:nvPr/>
          </p:nvSpPr>
          <p:spPr>
            <a:xfrm>
              <a:off x="6217560" y="2690640"/>
              <a:ext cx="2468520" cy="7268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900" spc="-1" strike="noStrike">
                  <a:solidFill>
                    <a:srgbClr val="000000"/>
                  </a:solidFill>
                  <a:latin typeface="Arial"/>
                </a:rPr>
                <a:t>Feature two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_s50191"/>
            <p:cNvSpPr/>
            <p:nvPr/>
          </p:nvSpPr>
          <p:spPr>
            <a:xfrm>
              <a:off x="457200" y="3781080"/>
              <a:ext cx="2468520" cy="7268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900" spc="-1" strike="noStrike">
                  <a:solidFill>
                    <a:srgbClr val="000000"/>
                  </a:solidFill>
                  <a:latin typeface="Arial"/>
                </a:rPr>
                <a:t>Feature seen in live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900" spc="-1" strike="noStrike">
                  <a:solidFill>
                    <a:srgbClr val="000000"/>
                  </a:solidFill>
                  <a:latin typeface="Arial"/>
                </a:rPr>
                <a:t>performanc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_s50195"/>
            <p:cNvSpPr/>
            <p:nvPr/>
          </p:nvSpPr>
          <p:spPr>
            <a:xfrm>
              <a:off x="3337200" y="3781080"/>
              <a:ext cx="2468520" cy="7268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900" spc="-1" strike="noStrike">
                  <a:solidFill>
                    <a:srgbClr val="000000"/>
                  </a:solidFill>
                  <a:latin typeface="Arial"/>
                </a:rPr>
                <a:t>Feature seen in live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900" spc="-1" strike="noStrike">
                  <a:solidFill>
                    <a:srgbClr val="000000"/>
                  </a:solidFill>
                  <a:latin typeface="Arial"/>
                </a:rPr>
                <a:t>performanc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_s50199"/>
            <p:cNvSpPr/>
            <p:nvPr/>
          </p:nvSpPr>
          <p:spPr>
            <a:xfrm>
              <a:off x="6217560" y="3781080"/>
              <a:ext cx="2468520" cy="7268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900" spc="-1" strike="noStrike">
                  <a:solidFill>
                    <a:srgbClr val="000000"/>
                  </a:solidFill>
                  <a:latin typeface="Arial"/>
                </a:rPr>
                <a:t>Feature seen in live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900" spc="-1" strike="noStrike">
                  <a:solidFill>
                    <a:srgbClr val="000000"/>
                  </a:solidFill>
                  <a:latin typeface="Arial"/>
                </a:rPr>
                <a:t>performanc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611280" y="4941720"/>
            <a:ext cx="7921440" cy="12027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How all the features combine to create an idea in the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47640" y="4508640"/>
            <a:ext cx="648000" cy="43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0" y="450864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7020000" y="4508640"/>
            <a:ext cx="504720" cy="43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3399"/>
                </a:solidFill>
                <a:latin typeface="Garamond"/>
              </a:rPr>
              <a:t>What do each of the underlined words mean?</a:t>
            </a:r>
            <a:endParaRPr b="0" lang="en-US" sz="3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Apply knowledg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f and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make judgement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bout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drama processes and performanc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 a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new contex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3399"/>
                </a:solidFill>
                <a:latin typeface="Garamond"/>
              </a:rPr>
              <a:t>Using Thinker’s keys to look at theatre form</a:t>
            </a:r>
            <a:endParaRPr b="0" lang="en-US" sz="3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Identify 10 aspects of theatre that are NOT in your theatre for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What if this performance was Melodrama or Elizabethan?  How would it be differen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Predict what the play would be if you picked the story up 10 years later in the protagonist’s lif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What are all of the disadvantages of performing using the features of this theatre form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Draw a random picture.  Explain how it shows the features of this theatre form as created in the live performan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200" spc="-1" strike="noStrike">
                <a:solidFill>
                  <a:srgbClr val="003399"/>
                </a:solidFill>
                <a:latin typeface="Garamond"/>
              </a:rPr>
              <a:t>How you can study – techniques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Pick a moment where an actor creates a memorable mome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Draw their body posi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Around it, annotate how they use any drama techniq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Explain what it shows about their charac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Make a link to this moment in relation to the world of the pla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200" spc="-1" strike="noStrike">
                <a:solidFill>
                  <a:srgbClr val="003399"/>
                </a:solidFill>
                <a:latin typeface="Garamond"/>
              </a:rPr>
              <a:t>How you can study – technologies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Pick a moment where a technology creates a memorable mome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Draw the stage and the technology u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Around it, annotate what is happe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Explain what the technology does to create an element ie focus, role, tension, moo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Make a link to this moment in relation to the world of the pla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3399"/>
                </a:solidFill>
                <a:latin typeface="Garamond"/>
              </a:rPr>
              <a:t>What do each of the underlined words mean?</a:t>
            </a:r>
            <a:endParaRPr b="0" lang="en-US" sz="3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 u="sng">
                <a:solidFill>
                  <a:srgbClr val="000000"/>
                </a:solidFill>
                <a:uFillTx/>
                <a:latin typeface="Sylfaen"/>
              </a:rPr>
              <a:t>Identify</a:t>
            </a:r>
            <a:r>
              <a:rPr b="0" lang="en-US" sz="1700" spc="-1" strike="noStrike">
                <a:solidFill>
                  <a:srgbClr val="000000"/>
                </a:solidFill>
                <a:latin typeface="Sylfaen"/>
              </a:rPr>
              <a:t> (USING DRAMA TERMS),                                 explain if they were successfu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 u="sng">
                <a:solidFill>
                  <a:srgbClr val="000000"/>
                </a:solidFill>
                <a:uFillTx/>
                <a:latin typeface="Sylfaen"/>
              </a:rPr>
              <a:t>describe</a:t>
            </a:r>
            <a:r>
              <a:rPr b="0" lang="en-US" sz="1700" spc="-1" strike="noStrike">
                <a:solidFill>
                  <a:srgbClr val="000000"/>
                </a:solidFill>
                <a:latin typeface="Sylfaen"/>
              </a:rPr>
              <a:t> what you know about                                       explain what </a:t>
            </a:r>
            <a:r>
              <a:rPr b="1" lang="en-US" sz="1700" spc="-1" strike="noStrike" u="sng">
                <a:solidFill>
                  <a:srgbClr val="000000"/>
                </a:solidFill>
                <a:uFillTx/>
                <a:latin typeface="Sylfaen"/>
              </a:rPr>
              <a:t>EFFECT</a:t>
            </a:r>
            <a:r>
              <a:rPr b="0" lang="en-US" sz="1700" spc="-1" strike="noStrike">
                <a:solidFill>
                  <a:srgbClr val="000000"/>
                </a:solidFill>
                <a:latin typeface="Sylfaen"/>
              </a:rPr>
              <a:t> is creat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lfaen"/>
              </a:rPr>
              <a:t>Drama from creating it yourself or                  how do they create a ‘world’ in their pla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lfaen"/>
              </a:rPr>
              <a:t>Seeing it in this script                                           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Apply knowledg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f and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make judgement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bout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drama processes and performanc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 a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new contex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700" spc="-1" strike="noStrike">
                <a:solidFill>
                  <a:srgbClr val="000000"/>
                </a:solidFill>
                <a:latin typeface="Sylfaen"/>
              </a:rPr>
              <a:t>A new context is what they have given you                drama processes are the ‘what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700" spc="-1" strike="noStrike">
                <a:solidFill>
                  <a:srgbClr val="000000"/>
                </a:solidFill>
                <a:latin typeface="Sylfaen"/>
              </a:rPr>
              <a:t>to read or view.                                                                      You dos’ to create drama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700" spc="-1" strike="noStrike">
                <a:solidFill>
                  <a:srgbClr val="000000"/>
                </a:solidFill>
                <a:latin typeface="Sylfaen"/>
              </a:rPr>
              <a:t>This year it is script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2700360" y="2997000"/>
            <a:ext cx="503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6372360" y="299700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3492000" y="4652640"/>
            <a:ext cx="287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4858920" y="4221000"/>
            <a:ext cx="136836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200" spc="-1" strike="noStrike">
                <a:solidFill>
                  <a:srgbClr val="003399"/>
                </a:solidFill>
                <a:latin typeface="Garamond"/>
              </a:rPr>
              <a:t>This year we know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tracts from a scripted play text will provide the new context”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We know this, because NZQA has told u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 will be two question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We know this, because NZQA has told u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Questions’ are like sections of the exam; an A and a B, with lots of little questions in th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Garamond"/>
              </a:rPr>
              <a:t>In Question One candidates will </a:t>
            </a:r>
            <a:r>
              <a:rPr b="1" lang="en-US" sz="2000" spc="-1" strike="noStrike">
                <a:solidFill>
                  <a:srgbClr val="003399"/>
                </a:solidFill>
                <a:latin typeface="Garamond"/>
              </a:rPr>
              <a:t>apply their knowledge of drama and drama processes</a:t>
            </a:r>
            <a:r>
              <a:rPr b="0" lang="en-US" sz="2000" spc="-1" strike="noStrike">
                <a:solidFill>
                  <a:srgbClr val="003399"/>
                </a:solidFill>
                <a:latin typeface="Garamond"/>
              </a:rPr>
              <a:t> by reading an extract from a play and:</a:t>
            </a: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identifying and describing drama element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 the extract. In particular, candidates will be expected to be able to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identify changes or beats in the tex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identifying and interpreting stage direc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describ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explain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e possible use of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drama techniques and technologies to perform the extract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200" spc="-1" strike="noStrike">
                <a:solidFill>
                  <a:srgbClr val="003399"/>
                </a:solidFill>
                <a:latin typeface="Garamond"/>
              </a:rPr>
              <a:t>Let’s look at question one firs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identifying and describing drama element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 the extract. In particular, candidates will be expected to be able to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identify changes or beats in the tex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identifying and interpreting stage direc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describ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explain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e possible use of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drama techniques and technologies to perform the extract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You do this </a:t>
            </a:r>
            <a:r>
              <a:rPr b="0" lang="en-NZ" sz="3000" spc="-1" strike="noStrike" u="sng">
                <a:solidFill>
                  <a:srgbClr val="000000"/>
                </a:solidFill>
                <a:uFillTx/>
                <a:latin typeface="Arial"/>
              </a:rPr>
              <a:t>EVERYTIME</a:t>
            </a: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 you work in dra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700" spc="-1" strike="noStrike">
                <a:solidFill>
                  <a:srgbClr val="000000"/>
                </a:solidFill>
                <a:latin typeface="Arial"/>
              </a:rPr>
              <a:t>You just do it, rather than write it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You are </a:t>
            </a:r>
            <a:r>
              <a:rPr b="0" lang="en-NZ" sz="3000" spc="-1" strike="noStrike" u="sng">
                <a:solidFill>
                  <a:srgbClr val="000000"/>
                </a:solidFill>
                <a:uFillTx/>
                <a:latin typeface="Arial"/>
              </a:rPr>
              <a:t>not doing anything new</a:t>
            </a: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100" spc="-1" strike="noStrike">
                <a:solidFill>
                  <a:srgbClr val="000000"/>
                </a:solidFill>
                <a:latin typeface="Arial"/>
              </a:rPr>
              <a:t>You are all very good at this!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200" spc="-1" strike="noStrike" u="sng">
                <a:solidFill>
                  <a:srgbClr val="003399"/>
                </a:solidFill>
                <a:uFillTx/>
                <a:latin typeface="Garamond"/>
              </a:rPr>
              <a:t>How you can study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700" spc="-1" strike="noStrike">
                <a:solidFill>
                  <a:srgbClr val="000000"/>
                </a:solidFill>
                <a:latin typeface="Arial"/>
              </a:rPr>
              <a:t>Pick any page of script. 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700" spc="-1" strike="noStrike">
                <a:solidFill>
                  <a:srgbClr val="000000"/>
                </a:solidFill>
                <a:latin typeface="Arial"/>
              </a:rPr>
              <a:t>Make sure you read the notes about the key ideas.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5T23:47:13Z</dcterms:created>
  <dc:creator>Ministry of Education</dc:creator>
  <dc:description/>
  <dc:language>en-US</dc:language>
  <cp:lastModifiedBy>Ministry of Education</cp:lastModifiedBy>
  <dcterms:modified xsi:type="dcterms:W3CDTF">2010-08-26T01:37:19Z</dcterms:modified>
  <cp:revision>9</cp:revision>
  <dc:subject/>
  <dc:title>The Level 2 Exa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