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25C-3131-4C07-834E-488D1006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183-DFAF-495F-B456-27D10F3C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DA4-31D9-46BA-84D7-D032E56F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10C-87E3-4276-9F2A-19AB30FB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980E-0B7D-4BAB-BE9F-F3120635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2167-943E-4F9A-A800-DB719AD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4A4C-35B7-4BBE-A4BE-C11A1692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3276-4CA8-4B6F-B4C7-8A3FA088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C357-A174-4216-8906-B74FF88A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2A9-3BD3-4EEC-BB69-6CA357D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E468-169F-45B5-BF95-3038F01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622-8A19-4B7E-8CBE-C9BDB75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FA76-134E-40FF-AF70-2740B530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7A97-DC71-4F36-8CAA-5327E80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3C01-0485-439C-8BC2-8146A972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0C23-2BED-4F29-9089-AD08CF4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35B-4AEF-4677-874F-312D1508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A0C-52B2-4FE3-965D-D924522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0B9-A438-480D-963F-E2472F3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1FE-EAE5-4151-A065-6EAE6A03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8DF-597F-49A7-A983-113C063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FD5-3853-4D8C-B4A1-6972DFD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047-AEB0-4CB0-AA10-E19FEAE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F9B-AAFE-47F8-8983-ECD1395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52C-2C17-46BE-9711-DFBF476E884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DA32-D806-4A8B-99EE-D97F9C1FA01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03399"/>
                </a:solidFill>
                <a:latin typeface="Garamond"/>
              </a:rPr>
              <a:t>The Level 2 Exam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the elements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773360"/>
            <a:ext cx="7848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what it the script focussing on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Is it a relationship or a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action li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Tahoma"/>
              </a:rPr>
              <a:t>actually happens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 in the sce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2 roles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ink about status and their relationship too.  How are they similar?  How are they differ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ension in this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are the two factors that cause ten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ime the scene is set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How could space be used to create the setting of the scene?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e stage directions may even tell you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mood of the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NOT the mood of one character; the mood the AUDIENCE fe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y symbols and describe how they are used and to what eff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4c6d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the beats in the 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rk the changes in beat with a double sla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a line in the script where the beat chan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escribe the change in beat in terms of what the character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used to want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and what they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now w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what this change in beat suggests about this character, or their relatio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how this links to the overall ideas of the play; hint, look at the elements you already ident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a stage direction </a:t>
            </a:r>
            <a:r>
              <a:rPr b="0" i="1" lang="en-NZ" sz="3000" spc="-1" strike="noStrike">
                <a:solidFill>
                  <a:srgbClr val="000000"/>
                </a:solidFill>
                <a:latin typeface="Arial"/>
              </a:rPr>
              <a:t>usually shown in ital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what will happen to the look of the stage when this happ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by linking this change to an element ie does it create focus on something?  Does it show us something new about a role?  Does it create a particular m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role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two beats.  One that changes after the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63376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raw the body position you would use in one of those lines to show the beat that you have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nnotate around that drawing what other drama techniques you would use to create that ‘beat’ (or want or dr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 gesture you woul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Your facial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Quote the line you are saying and explain how you would use vocal techniques to say it to create the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o steps 1 and 2 again, but with the beat directly follow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Write a paragraph that explains what the audience will understand about your character through the performance.  Make a link to the ‘world of the play’ at the end of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technology you could use in a moment in the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349360"/>
            <a:ext cx="784836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the technology you would use AND  the line in the script you would use it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escribe what the stage would look like/sound like before the technology change and then once it has been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Explain what the effect of the use of technology ie link it to an element does it create focus on something or someone?  Does it tell us someone about a role?  What tension does it create?  What mood does it cre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ink the use of technology to the world of the play.  What main idea in the play does it highligh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In Question Two candidates will 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respond to and make judgements about a live theatre performance</a:t>
            </a: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 by: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the theatre form of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ing how aspects of the performance were typical or atypical of the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ing the use of drama techniques and technologies in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What this mea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know what theatre form the performance ‘fits into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 the features of that theatre form and where they were seen in your perform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, describe and make links to the effect of drama techniques and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articulate the ideas that the play was trying to show and how the use of the theatre form, techniques and technologies created these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How you can study – theatre form of the live performance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one of the theatre forms your ‘live theatre performance’ fits i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all of the features of that theatre form in bullet 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heatre form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reate a diagram that identifies the features of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t should have links on it to where you saw these features in the live performance that you s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ose links should then go to a box where you explain how all of these things you saw in your live performance created a single idea/theme in you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ill it look like this?  What will the next box look like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600200"/>
            <a:ext cx="8228880" cy="2907720"/>
            <a:chOff x="457200" y="1600200"/>
            <a:chExt cx="8228880" cy="2907720"/>
          </a:xfrm>
        </p:grpSpPr>
        <p:cxnSp>
          <p:nvCxnSpPr>
            <p:cNvPr id="131" name="_s50200"/>
            <p:cNvCxnSpPr>
              <a:stCxn id="132" idx="0"/>
              <a:endCxn id="133" idx="2"/>
            </p:cNvCxnSpPr>
            <p:nvPr/>
          </p:nvCxnSpPr>
          <p:spPr>
            <a:xfrm flipV="1">
              <a:off x="745164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50196"/>
            <p:cNvCxnSpPr>
              <a:stCxn id="135" idx="0"/>
              <a:endCxn id="136" idx="2"/>
            </p:cNvCxnSpPr>
            <p:nvPr/>
          </p:nvCxnSpPr>
          <p:spPr>
            <a:xfrm flipV="1">
              <a:off x="457128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50192"/>
            <p:cNvCxnSpPr>
              <a:stCxn id="138" idx="0"/>
              <a:endCxn id="139" idx="2"/>
            </p:cNvCxnSpPr>
            <p:nvPr/>
          </p:nvCxnSpPr>
          <p:spPr>
            <a:xfrm flipV="1">
              <a:off x="169092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0188"/>
            <p:cNvCxnSpPr>
              <a:stCxn id="133" idx="0"/>
              <a:endCxn id="141" idx="2"/>
            </p:cNvCxnSpPr>
            <p:nvPr/>
          </p:nvCxnSpPr>
          <p:spPr>
            <a:xfrm flipV="1" rot="16200000">
              <a:off x="5829480" y="106776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50187"/>
            <p:cNvCxnSpPr>
              <a:stCxn id="136" idx="0"/>
              <a:endCxn id="141" idx="2"/>
            </p:cNvCxnSpPr>
            <p:nvPr/>
          </p:nvCxnSpPr>
          <p:spPr>
            <a:xfrm flipV="1">
              <a:off x="4571280" y="23263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0186"/>
            <p:cNvCxnSpPr>
              <a:stCxn id="139" idx="0"/>
              <a:endCxn id="141" idx="2"/>
            </p:cNvCxnSpPr>
            <p:nvPr/>
          </p:nvCxnSpPr>
          <p:spPr>
            <a:xfrm flipH="1" flipV="1" rot="5400000">
              <a:off x="2949480" y="106812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50182"/>
            <p:cNvSpPr/>
            <p:nvPr/>
          </p:nvSpPr>
          <p:spPr>
            <a:xfrm>
              <a:off x="3337200" y="160020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My theatre form i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50183"/>
            <p:cNvSpPr/>
            <p:nvPr/>
          </p:nvSpPr>
          <p:spPr>
            <a:xfrm>
              <a:off x="45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50184"/>
            <p:cNvSpPr/>
            <p:nvPr/>
          </p:nvSpPr>
          <p:spPr>
            <a:xfrm>
              <a:off x="333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50185"/>
            <p:cNvSpPr/>
            <p:nvPr/>
          </p:nvSpPr>
          <p:spPr>
            <a:xfrm>
              <a:off x="621756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50191"/>
            <p:cNvSpPr/>
            <p:nvPr/>
          </p:nvSpPr>
          <p:spPr>
            <a:xfrm>
              <a:off x="45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50195"/>
            <p:cNvSpPr/>
            <p:nvPr/>
          </p:nvSpPr>
          <p:spPr>
            <a:xfrm>
              <a:off x="333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50199"/>
            <p:cNvSpPr/>
            <p:nvPr/>
          </p:nvSpPr>
          <p:spPr>
            <a:xfrm>
              <a:off x="621756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1280" y="4941720"/>
            <a:ext cx="7921440" cy="120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all the features combine to create an idea in th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508640"/>
            <a:ext cx="648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20000" y="450864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Using Thinker’s keys to look at theatre form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10 aspects of theatre that are NOT in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if this performance was Melodrama or Elizabethan?  How would it be differ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edict what the play would be if you picked the story up 10 years later in the protagonist’s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are all of the disadvantages of performing using the features of this theatre 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raw a random picture.  Explain how it shows the features of this theatre form as created in the live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iq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n actor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ir body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how they use any drama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it shows about their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ologi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 technology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 stage and the technology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what is happ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the technology does to create an element ie focus, role, tension, m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Identify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(USING DRAMA TERMS),                                 explain if they were successfu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describe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what you know about                                       explain what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EFFECT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is cre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Drama from creating it yourself or                  how do they create a ‘world’ in their p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Seeing it in this script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A new context is what they have given you                drama processes are the ‘wha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o read or view.                                                                      You dos’ to create dram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his year it is scrip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700360" y="29970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372360" y="2997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000" y="46526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858920" y="422100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This year we know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s from a scripted play text will provide the new context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ill be two ques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Questions’ are like sections of the exam; an A and a B, with lots of little questions in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In Question One candidates will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pply their knowledge of drama and drama processes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by reading an extract from a play and: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Let’s look at question one fir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do this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EVERYTIM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you work in d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Arial"/>
              </a:rPr>
              <a:t>You just do it, rather than write 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are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not doing anything new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100" spc="-1" strike="noStrike">
                <a:solidFill>
                  <a:srgbClr val="000000"/>
                </a:solidFill>
                <a:latin typeface="Arial"/>
              </a:rPr>
              <a:t>You are all very good at this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Pick any page of script.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Make sure you read the notes about the key idea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3:47:13Z</dcterms:created>
  <dc:creator>Ministry of Education</dc:creator>
  <dc:description/>
  <dc:language>en-US</dc:language>
  <cp:lastModifiedBy>Ministry of Education</cp:lastModifiedBy>
  <dcterms:modified xsi:type="dcterms:W3CDTF">2010-08-26T01:37:19Z</dcterms:modified>
  <cp:revision>9</cp:revision>
  <dc:subject/>
  <dc:title>The Level 2 Ex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