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E44-B316-4ABF-BC44-8FC5C8E2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959-4CA4-473E-A325-8593CB8B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B13-D4E7-445C-8C86-AD588DD6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C80-CC38-44DA-A4AC-6850D829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ECDF-2FA1-4CE4-B849-32141426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B670-2936-4CF4-8949-9A60FB5D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01A0-7F39-4FA4-B7F3-B4E88786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F296-7AA5-4EFD-86DF-B043BA5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CDE3-1D07-4100-A26C-9973929C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F574-DB41-467E-BAFC-F99C7B0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9EB7-A343-4192-849E-A683E24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4DC-3F3A-4713-A299-594E2846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D60D-90A5-4E9B-BEFE-E6F58D4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1694-F57E-4BCD-A346-AE5AA8A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2FD4-3D7F-4930-9847-F443EFEE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38AF-7C5F-456A-8158-46EB2670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70A4-0825-4AB2-9C00-E44C24D1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D6B-9EE8-4EE1-B743-81EB0805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B87-3D7C-457C-AC9A-087D128E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D5F-FC22-453D-8374-22C8FA01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B7E-267C-4890-A3BE-59D074C9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179-14EC-4B0E-8B84-F369256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427-76E6-4859-995B-541D7B16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DE4-CFA9-484D-B4B3-5C364EC9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D13F-3C70-4BD7-BF99-B14E0E12815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91D5-DD61-4FB8-B284-8F00FF136707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03399"/>
                </a:solidFill>
                <a:latin typeface="Garamond"/>
              </a:rPr>
              <a:t>The Level 2 Exam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the elements in the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773360"/>
            <a:ext cx="784836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what it the script focussing on.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Is it a relationship or a probl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action li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Tahoma"/>
              </a:rPr>
              <a:t>actually happens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 in the sce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2 roles.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Think about status and their relationship too.  How are they similar?  How are they differ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tension in this sce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What are the two factors that cause ten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time the scene is set 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How could space be used to create the setting of the scene?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The stage directions may even tell you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mood of the sce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NOT the mood of one character; the mood the AUDIENCE fe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y symbols and describe how they are used and to what eff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4c6d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the beats in the 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rk the changes in beat with a double sla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a line in the script where the beat chan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escribe the change in beat in terms of what the character </a:t>
            </a:r>
            <a:r>
              <a:rPr b="1" lang="en-NZ" sz="2600" spc="-1" strike="noStrike">
                <a:solidFill>
                  <a:srgbClr val="000000"/>
                </a:solidFill>
                <a:latin typeface="Arial"/>
              </a:rPr>
              <a:t>used to want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and what they </a:t>
            </a:r>
            <a:r>
              <a:rPr b="1" lang="en-NZ" sz="2600" spc="-1" strike="noStrike">
                <a:solidFill>
                  <a:srgbClr val="000000"/>
                </a:solidFill>
                <a:latin typeface="Arial"/>
              </a:rPr>
              <a:t>now w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xplain what this change in beat suggests about this character, or their relatio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xplain how this links to the overall ideas of the play; hint, look at the elements you already ident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a stage direction </a:t>
            </a:r>
            <a:r>
              <a:rPr b="0" i="1" lang="en-NZ" sz="3000" spc="-1" strike="noStrike">
                <a:solidFill>
                  <a:srgbClr val="000000"/>
                </a:solidFill>
                <a:latin typeface="Arial"/>
              </a:rPr>
              <a:t>usually shown in ital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what will happen to the look of the stage when this happe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by linking this change to an element ie does it create focus on something?  Does it show us something new about a role?  Does it create a particular mo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hoose a role in the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two beats.  One that changes after the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63376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raw the body position you would use in one of those lines to show the beat that you have ident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nnotate around that drawing what other drama techniques you would use to create that ‘beat’ (or want or dr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 gesture you would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Your facial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Quote the line you are saying and explain how you would use vocal techniques to say it to create the dr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o steps 1 and 2 again, but with the beat directly follow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Write a paragraph that explains what the audience will understand about your character through the performance.  Make a link to the ‘world of the play’ at the end of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hoose a technology you could use in a moment in the scri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349360"/>
            <a:ext cx="784836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the technology you would use AND  the line in the script you would use it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escribe what the stage would look like/sound like before the technology change and then once it has been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Explain what the effect of the use of technology ie link it to an element does it create focus on something or someone?  Does it tell us someone about a role?  What tension does it create?  What mood does it cre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ink the use of technology to the world of the play.  What main idea in the play does it highlight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In Question Two candidates will </a:t>
            </a: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respond to and make judgements about a live theatre performance</a:t>
            </a: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 by:</a:t>
            </a:r>
            <a:endParaRPr b="0" lang="en-US" sz="2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the theatre form of the perform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ing how aspects of the performance were typical or atypical of the fo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ing the use of drama techniques and technologies in the perform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What this mea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know what theatre form the performance ‘fits into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identify the features of that theatre form and where they were seen in your perform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identify, describe and make links to the effect of drama techniques and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articulate the ideas that the play was trying to show and how the use of the theatre form, techniques and technologies created these id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How you can study – theatre form of the live performance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one of the theatre forms your ‘live theatre performance’ fits i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all of the features of that theatre form in bullet  po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heatre form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reate a diagram that identifies the features of your theatre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t should have links on it to where you saw these features in the live performance that you s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ose links should then go to a box where you explain how all of these things you saw in your live performance created a single idea/theme in your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ill it look like this?  What will the next box look like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1600200"/>
            <a:ext cx="8228880" cy="2907720"/>
            <a:chOff x="457200" y="1600200"/>
            <a:chExt cx="8228880" cy="2907720"/>
          </a:xfrm>
        </p:grpSpPr>
        <p:cxnSp>
          <p:nvCxnSpPr>
            <p:cNvPr id="131" name="_s50200"/>
            <p:cNvCxnSpPr>
              <a:stCxn id="132" idx="0"/>
              <a:endCxn id="133" idx="2"/>
            </p:cNvCxnSpPr>
            <p:nvPr/>
          </p:nvCxnSpPr>
          <p:spPr>
            <a:xfrm flipV="1">
              <a:off x="745164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50196"/>
            <p:cNvCxnSpPr>
              <a:stCxn id="135" idx="0"/>
              <a:endCxn id="136" idx="2"/>
            </p:cNvCxnSpPr>
            <p:nvPr/>
          </p:nvCxnSpPr>
          <p:spPr>
            <a:xfrm flipV="1">
              <a:off x="457128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50192"/>
            <p:cNvCxnSpPr>
              <a:stCxn id="138" idx="0"/>
              <a:endCxn id="139" idx="2"/>
            </p:cNvCxnSpPr>
            <p:nvPr/>
          </p:nvCxnSpPr>
          <p:spPr>
            <a:xfrm flipV="1">
              <a:off x="169092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0188"/>
            <p:cNvCxnSpPr>
              <a:stCxn id="133" idx="0"/>
              <a:endCxn id="141" idx="2"/>
            </p:cNvCxnSpPr>
            <p:nvPr/>
          </p:nvCxnSpPr>
          <p:spPr>
            <a:xfrm flipV="1" rot="16200000">
              <a:off x="5829480" y="1067760"/>
              <a:ext cx="363960" cy="2880720"/>
            </a:xfrm>
            <a:prstGeom prst="bentConnector3">
              <a:avLst>
                <a:gd name="adj1" fmla="val 237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50187"/>
            <p:cNvCxnSpPr>
              <a:stCxn id="136" idx="0"/>
              <a:endCxn id="141" idx="2"/>
            </p:cNvCxnSpPr>
            <p:nvPr/>
          </p:nvCxnSpPr>
          <p:spPr>
            <a:xfrm flipV="1">
              <a:off x="4571280" y="23263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50186"/>
            <p:cNvCxnSpPr>
              <a:stCxn id="139" idx="0"/>
              <a:endCxn id="141" idx="2"/>
            </p:cNvCxnSpPr>
            <p:nvPr/>
          </p:nvCxnSpPr>
          <p:spPr>
            <a:xfrm flipH="1" flipV="1" rot="5400000">
              <a:off x="2949480" y="1068120"/>
              <a:ext cx="363960" cy="2880720"/>
            </a:xfrm>
            <a:prstGeom prst="bentConnector3">
              <a:avLst>
                <a:gd name="adj1" fmla="val 237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1" name="_s50182"/>
            <p:cNvSpPr/>
            <p:nvPr/>
          </p:nvSpPr>
          <p:spPr>
            <a:xfrm>
              <a:off x="3337200" y="160020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My theatre form i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50183"/>
            <p:cNvSpPr/>
            <p:nvPr/>
          </p:nvSpPr>
          <p:spPr>
            <a:xfrm>
              <a:off x="45720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on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50184"/>
            <p:cNvSpPr/>
            <p:nvPr/>
          </p:nvSpPr>
          <p:spPr>
            <a:xfrm>
              <a:off x="333720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tw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50185"/>
            <p:cNvSpPr/>
            <p:nvPr/>
          </p:nvSpPr>
          <p:spPr>
            <a:xfrm>
              <a:off x="621756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tw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50191"/>
            <p:cNvSpPr/>
            <p:nvPr/>
          </p:nvSpPr>
          <p:spPr>
            <a:xfrm>
              <a:off x="45720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50195"/>
            <p:cNvSpPr/>
            <p:nvPr/>
          </p:nvSpPr>
          <p:spPr>
            <a:xfrm>
              <a:off x="333720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50199"/>
            <p:cNvSpPr/>
            <p:nvPr/>
          </p:nvSpPr>
          <p:spPr>
            <a:xfrm>
              <a:off x="621756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11280" y="4941720"/>
            <a:ext cx="7921440" cy="1202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all the features combine to create an idea in the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508640"/>
            <a:ext cx="64800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20000" y="4508640"/>
            <a:ext cx="504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hat do each of the underlined words mean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pply knowled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ke judg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processes and perform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w con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Using Thinker’s keys to look at theatre form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10 aspects of theatre that are NOT in your theatre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t if this performance was Melodrama or Elizabethan?  How would it be differ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edict what the play would be if you picked the story up 10 years later in the protagonist’s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t are all of the disadvantages of performing using the features of this theatre fo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raw a random picture.  Explain how it shows the features of this theatre form as created in the live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echniq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a moment where an actor creates a memorable mo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raw their body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round it, annotate how they use any drama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xplain what it shows about their charac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ake a link to this moment in relation to the world of the pl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echnologi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a moment where a technology creates a memorable mo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raw the stage and the technology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round it, annotate what is happ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xplain what the technology does to create an element ie focus, role, tension, m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ake a link to this moment in relation to the world of the pl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hat do each of the underlined words mean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Identify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(USING DRAMA TERMS),                                 explain if they were successfu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describe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what you know about                                       explain what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EFFECT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is cre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Drama from creating it yourself or                  how do they create a ‘world’ in their pl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Seeing it in this script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pply knowled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ke judg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processes and perform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w con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A new context is what they have given you                drama processes are the ‘wha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to read or view.                                                                      You dos’ to create dram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This year it is scrip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700360" y="299700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372360" y="2997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492000" y="46526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858920" y="422100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This year we know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cts from a scripted play text will provide the new context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We know this, because NZQA has tol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ill be two ques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We know this, because NZQA has tol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Questions’ are like sections of the exam; an A and a B, with lots of little questions in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In Question One candidates will </a:t>
            </a: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pply their knowledge of drama and drama processes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by reading an extract from a play and: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describing drama el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extract. In particular, candidates will be expected to be able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 changes or beats in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interpreting stage dir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scrib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plain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ossible use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techniques and technologies to perform the ext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Let’s look at question one fir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describing drama el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extract. In particular, candidates will be expected to be able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 changes or beats in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interpreting stage dir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scrib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plain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ossible use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techniques and technologies to perform the ext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You do this </a:t>
            </a:r>
            <a:r>
              <a:rPr b="0" lang="en-NZ" sz="3000" spc="-1" strike="noStrike" u="sng">
                <a:solidFill>
                  <a:srgbClr val="000000"/>
                </a:solidFill>
                <a:uFillTx/>
                <a:latin typeface="Arial"/>
              </a:rPr>
              <a:t>EVERYTIME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you work in d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Arial"/>
              </a:rPr>
              <a:t>You just do it, rather than write 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You are </a:t>
            </a:r>
            <a:r>
              <a:rPr b="0" lang="en-NZ" sz="3000" spc="-1" strike="noStrike" u="sng">
                <a:solidFill>
                  <a:srgbClr val="000000"/>
                </a:solidFill>
                <a:uFillTx/>
                <a:latin typeface="Arial"/>
              </a:rPr>
              <a:t>not doing anything new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100" spc="-1" strike="noStrike">
                <a:solidFill>
                  <a:srgbClr val="000000"/>
                </a:solidFill>
                <a:latin typeface="Arial"/>
              </a:rPr>
              <a:t>You are all very good at this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700" spc="-1" strike="noStrike">
                <a:solidFill>
                  <a:srgbClr val="000000"/>
                </a:solidFill>
                <a:latin typeface="Arial"/>
              </a:rPr>
              <a:t>Pick any page of script.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700" spc="-1" strike="noStrike">
                <a:solidFill>
                  <a:srgbClr val="000000"/>
                </a:solidFill>
                <a:latin typeface="Arial"/>
              </a:rPr>
              <a:t>Make sure you read the notes about the key ideas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23:47:13Z</dcterms:created>
  <dc:creator>Ministry of Education</dc:creator>
  <dc:description/>
  <dc:language>en-US</dc:language>
  <cp:lastModifiedBy>Ministry of Education</cp:lastModifiedBy>
  <dcterms:modified xsi:type="dcterms:W3CDTF">2010-08-26T01:37:19Z</dcterms:modified>
  <cp:revision>9</cp:revision>
  <dc:subject/>
  <dc:title>The Level 2 Ex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