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57CB-3D9C-4471-A8F2-79A27A87D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B35C-C934-40CC-B43F-B44527C2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8C8D-0E5A-4258-9222-4DA6ABAAC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0EF4-325C-4668-A861-749744295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0460-74A0-4CC8-99CD-B6E666F52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76A6A-7677-482B-BC60-8B6F05E4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ACC7-82EA-4AAD-8A9D-47B86EBE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CF02-B176-4B02-BF17-77D89FEA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B4DE-A1E2-4272-B87A-1AF045DE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602B-0531-4D85-8F61-1523D18D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CDC6-5A7A-4471-A252-30D63BA9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1B23-F05A-40A6-8220-14D52803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E047-8819-4178-9434-FC2C6F2D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83B6-A5B7-467F-9331-549FFECC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3B9D-8058-4F12-9722-DB226D7E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3A8E-F60B-4A91-9A8A-339668A4B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11BA-6A69-49A3-87CD-E2127D9F5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00B2-8F74-46DF-9188-71221903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D7B7-E85D-4F1B-B8BE-A881D247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2E12-0434-43A5-931A-7416EF69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BC00-31C2-4987-9E13-0E0E4A7B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89CB-E74F-434C-AD7A-369AF219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5C29-40D7-4034-9E01-26D3FD2D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BB4F-46EC-42AB-BF0E-D4B9C827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FC4F-60FB-4D78-BDFE-3DF4ACD681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77EE-9540-41CE-AE8C-392E7196BB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1294920"/>
            <a:ext cx="327672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kespe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3657600" cy="9144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ard of Av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0" y="457200"/>
            <a:ext cx="4233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Y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 T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spense is built, usually the “good guys” and the “bad guys” make preliminary moves against each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4114800"/>
            <a:ext cx="136548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Y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 TH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gs look like the “bay guys” are going to win. This gets the audience more involved - they want to know what happens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086600" y="4191120"/>
            <a:ext cx="136512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Y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 F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“good guys” get better and begin to close the gap with the “bad guys”. The audience is ready for the final victory - but we do not reach it in this 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Y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 F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clusion - the final battle, the “good guys” win. There could be a twist or turn that is unexpected but generally, a win is inevi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this act is much shorter than the oth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ragedies, some (or many) of the characters are d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omedies, all is resolved happi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E’ and ‘THOU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nguage is at least 400 years 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written for an audience for whom this language was no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590920" y="3200400"/>
            <a:ext cx="365760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LINE BI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r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ril 23 156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 Stratford-upon-Av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ved and went to school there until the age of thirteen (no evidence that he went to univers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8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 18, he married Anne Hatha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8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ir daughter, Susanna is bo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8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ins, Judith and Hamnet are bo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LINE BI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8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ft for London with a traveling performance compan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8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gan writing his own p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9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well-known as an actor, and his plays were sponsored by the Earl of Southamp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9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med the “Lord Chamberlain’s Men” (theatre compan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LINE BI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9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mnet 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9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uys ‘New Place’ for his fam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9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comes a shareholder in The Globe thea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0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comes part of “The Kings Men” theatre company under King James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0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kes over and becomes a shareholder in The Blackfriars Theat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LINE BI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44960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1610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Shakespeare returns home to Stratford-upon-Avon to live out his final years with his family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1613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The Globe Theatre burns dow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1614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 Globe Theatre is re-buil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1616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Shakespeare dies on his 52nd birthday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1623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First collected edition of plays publish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5800" y="160020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All’s Well That Ends We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Cymbe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As You Like 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Peric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The Comedy of Err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The Winter’s T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Love’s Labour’s L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The Two Gentlemen of Vero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Measure for Meas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Twelfth N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The Merry Wives of Wind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Troilus and Cress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The Merchant of Ven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The Temp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A Midsummer Night’s Dre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The Taming of the Shr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Much Ado About Noth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GE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85800" y="1752480"/>
          <a:ext cx="7772400" cy="22860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Antony and Cleopa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Coriolan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Haml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Julius Caes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King L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Macbe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Othel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Romeo and Juli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Timon of Athe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Titus Andronic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962520" y="4267080"/>
            <a:ext cx="136512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5800" y="1752480"/>
          <a:ext cx="7772400" cy="22860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Henry IV, Part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Henry VI, Part 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Henry IV, Par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Henry V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Henry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King Joh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Henry VI, Part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Richard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Henry VI, Part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Richard 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962520" y="4267080"/>
            <a:ext cx="136512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Y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flict of the characters is established and the audience ‘takes sides’. The rationale and emotional background of the coming action is given to the audi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21:32:33Z</dcterms:created>
  <dc:creator>Ministry of Education</dc:creator>
  <dc:description/>
  <dc:language>en-US</dc:language>
  <cp:lastModifiedBy>Ministry of Education</cp:lastModifiedBy>
  <dcterms:modified xsi:type="dcterms:W3CDTF">2010-03-04T04:48:34Z</dcterms:modified>
  <cp:revision>9</cp:revision>
  <dc:subject/>
  <dc:title>10 DFT - Shakespeare</dc:title>
</cp:coreProperties>
</file>