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3793-DEFD-41E9-8279-2D0B70FB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08B9-5FA6-4442-96B5-411B0DFA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5F70-C51F-42EA-93DF-3EB2C858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2D93-96FF-4073-BF86-0415B5C6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B277-139C-4454-A5B0-7496B33A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1B91-7DA2-46EF-8192-26C84EFE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C85E-DEC6-4FF8-A4AB-6CAA5642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EECA-2F21-4B4F-AE46-C1ACF5B4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B73D-5FB3-4F32-ABD7-9AC31A47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F560-A45A-448E-A378-E97CA561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0CB7-4007-47E1-A3DD-DF82E4BE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C14F-C03B-460A-B939-3B5DFD5A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15FC-AEFF-444A-9DA6-A2CED76E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4226-9FDA-4B54-B122-7E7B3F4E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E3C4-789C-40AC-8023-4F22D44F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281E-0B5E-4D0A-8C7C-45DED49E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56EC-B8CA-4A0F-9090-1EE0A9BB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F1D2-1E51-42BD-BABE-E5BC1F25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5645-C71D-4B7D-8940-EFDFF13F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7768-9EC1-4A8B-A76A-25B5E530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E9C4-D592-45A2-8C28-1C856FF9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754F-B983-4DF6-BE57-42F9BA64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4685-C8BA-4403-9471-4D7BE043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049F-B538-41A9-B7B1-2BBB0BD0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91AA-C5BE-43DC-AB3A-AE4F720527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5705-27DF-4A34-8208-0269E42FBC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327672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kespe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3657600" cy="914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rd of Av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4233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Y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 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spense is built, usually the “good guys” and the “bad guys” make preliminary moves against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4114800"/>
            <a:ext cx="13654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Y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 TH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gs look like the “bay guys” are going to win. This gets the audience more involved - they want to know what happen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086600" y="4191120"/>
            <a:ext cx="136512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Y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 F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“good guys” get better and begin to close the gap with the “bad guys”. The audience is ready for the final victory - but we do not reach it in this 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Y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 F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clusion - the final battle, the “good guys” win. There could be a twist or turn that is unexpected but generally, a win is inevi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this act is much shorter than the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ragedies, some (or many) of the characters are d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medies, all is resolved happ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E’ and ‘THOU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nguage is at least 400 years 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written for an audience for whom this language was 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90920" y="3200400"/>
            <a:ext cx="36576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LINE B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ril 23 156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Stratford-upon-Av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ed and went to school there until the age of thirteen (no evidence that he went to univers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8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18, he married Anne Hath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8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ir daughter, Susanna is bo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8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ins, Judith and Hamnet are bo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LINE B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8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ft for London with a traveling performance compa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8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gan writing his own 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9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well-known as an actor, and his plays were sponsored by the Earl of Southamp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9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med the “Lord Chamberlain’s Men” (theatre compan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LINE B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9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mnet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9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uys ‘New Place’ for his fam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9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omes a shareholder in The Globe thea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0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omes part of “The Kings Men” theatre company under King James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0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kes over and becomes a shareholder in The Blackfriars Thea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LINE B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610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hakespeare returns home to Stratford-upon-Avon to live out his final years with his fami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613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he Globe Theatre burns dow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614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Globe Theatre is re-buil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616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hakespeare dies on his 52nd birthda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623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First collected edition of plays publish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160020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All’s Well That Ends W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Cymbe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As You Like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Peric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he Comedy of Err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he Winter’s T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Love’s Labour’s L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he Two Gentlemen of Vero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Measure for Mea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welfth N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he Merry Wives of Wind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roilus and Cress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he Merchant of Ven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he Temp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A Midsummer Night’s Dre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he Taming of the Shr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Much Ado About Not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GE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5800" y="1752480"/>
          <a:ext cx="7772400" cy="2286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Antony and Cleopa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Coriolan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Haml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Julius Caes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King L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Macbe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Othe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Romeo and Juli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imon of Ath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Titus Andronic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962520" y="4267080"/>
            <a:ext cx="136512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1752480"/>
          <a:ext cx="7772400" cy="2286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Henry IV, Part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Henry VI, Part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Henry IV, Par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Henry V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Henry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King Joh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Henry VI, Part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Richard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Henry VI, Part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Bold"/>
                          <a:ea typeface="MS Pゴシック"/>
                        </a:rPr>
                        <a:t>Richard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962520" y="4267080"/>
            <a:ext cx="136512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Y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flict of the characters is established and the audience ‘takes sides’. The rationale and emotional background of the coming action is given to the audi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21:32:33Z</dcterms:created>
  <dc:creator>Ministry of Education</dc:creator>
  <dc:description/>
  <dc:language>en-US</dc:language>
  <cp:lastModifiedBy>Ministry of Education</cp:lastModifiedBy>
  <dcterms:modified xsi:type="dcterms:W3CDTF">2010-03-04T04:48:34Z</dcterms:modified>
  <cp:revision>9</cp:revision>
  <dc:subject/>
  <dc:title>10 DFT - Shakespeare</dc:title>
</cp:coreProperties>
</file>