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D4E2-9D98-46BB-B9DA-540D23CB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6659-045C-4447-9983-D5C576FE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D45-7801-4C8F-A885-C94FC3B3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C95-D6A3-46CA-AB88-B5B242B2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6168-0804-4AE7-8D4B-6937D6CE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2C34-2C5E-4CF1-9FEC-026C910D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B408-29AA-4448-9A54-F68375EC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47DE-11CA-459B-9571-21441768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0059-3DC1-4FBD-8ED3-D44C4CB3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1629-C7E7-46DF-9A71-EAC710E3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4992-892E-4692-BA35-74DD341E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F4B0-5E0C-4E65-8B22-90BC2AE6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E06F-FFAA-4002-AB13-CBC36182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C04C-E0E0-4386-8109-74F49971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3359-A0B7-4E89-BE09-0CA39BEE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1881-77DE-45FA-ADFA-63DEACC6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9B70-E93D-490D-B1D7-2F8A8D6E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07F-165C-4B88-9E6B-9CEE7D35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75A-DB89-4616-B279-7B3BD0F8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612-E78F-4C76-AF3D-45E6A6B0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57BC-7B8A-45DE-B036-8974B9F9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1BB6-477A-4521-A109-B6A1FCB0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2A6F-4F32-457C-97C5-B3328519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8405-216E-417E-98AE-6B5EA6CA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46D2-88B4-447C-9508-260E6F3518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7630-FD58-4516-AB4B-0F06361138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327672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kespe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3657600" cy="914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rd of Av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4233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spense is built, usually the “good guys” and the “bad guys” make preliminary moves against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4114800"/>
            <a:ext cx="13654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look like the “bay guys” are going to win. This gets the audience more involved - they want to know what happen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086600" y="4191120"/>
            <a:ext cx="13651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 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“good guys” get better and begin to close the gap with the “bad guys”. The audience is ready for the final victory - but we do not reach it in this 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 F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clusion - the final battle, the “good guys” win. There could be a twist or turn that is unexpected but generally, a win is inevi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this act is much shorter than the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ragedies, some (or many) of the characters are d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medies, all is resolved happ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E’ and ‘THOU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nguage is at least 400 years 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written for an audience for whom this language was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90920" y="3200400"/>
            <a:ext cx="36576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 B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ril 23 156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Stratford-upon-Av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d and went to school there until the age of thirteen (no evidence that he went to univers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8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18, he married Anne Hath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8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ir daughter, Susanna is bo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8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ins, Judith and Hamnet are bo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 B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8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ft for London with a traveling performance compa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8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gan writing his own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9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well-known as an actor, and his plays were sponsored by the Earl of Southamp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9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med the “Lord Chamberlain’s Men” (theatre compan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 B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9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mnet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9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uys ‘New Place’ for his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9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omes a shareholder in The Globe thea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0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omes part of “The Kings Men” theatre company under King James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0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kes over and becomes a shareholder in The Blackfriars Thea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 B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61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hakespeare returns home to Stratford-upon-Avon to live out his final years with his fami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613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he Globe Theatre burns dow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614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Globe Theatre is re-buil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616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hakespeare dies on his 52nd birthda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623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First collected edition of plays publish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60020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All’s Well That Ends W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Cymb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As You Like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Peric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Comedy of Err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Winter’s 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Love’s Labour’s L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Two Gentlemen of Ver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Measure for Mea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welfth N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Merry Wives of Wind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roilus and Cress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Merchant of Ven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Temp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A Midsummer Night’s Dr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Taming of the Shr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Much Ado About Not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G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1752480"/>
          <a:ext cx="7772400" cy="2286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Antony and Cleopa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Coriolan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aml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Julius Caes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King L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Macbe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Othe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Romeo and Juli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imon of Ath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itus Andronic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62520" y="4267080"/>
            <a:ext cx="13651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752480"/>
          <a:ext cx="7772400" cy="2286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IV, Part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VI, Part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IV, Par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V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King 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VI, Part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Richard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VI, Part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Richard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962520" y="4267080"/>
            <a:ext cx="13651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flict of the characters is established and the audience ‘takes sides’. The rationale and emotional background of the coming action is given to the aud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21:32:33Z</dcterms:created>
  <dc:creator>Ministry of Education</dc:creator>
  <dc:description/>
  <dc:language>en-US</dc:language>
  <cp:lastModifiedBy>Ministry of Education</cp:lastModifiedBy>
  <dcterms:modified xsi:type="dcterms:W3CDTF">2010-03-04T04:48:34Z</dcterms:modified>
  <cp:revision>9</cp:revision>
  <dc:subject/>
  <dc:title>10 DFT - Shakespeare</dc:title>
</cp:coreProperties>
</file>