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B0B-0C9C-480B-BBF0-9AEB8AF6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E9B-FB38-4D61-83D0-80F6F08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6B6-01B9-4BA3-843E-F3812CEE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E2E-298A-4A96-A9C8-E0595824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62D-4CBD-4C3A-B9BC-FF6524B9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6FBF-C2CA-4301-88A5-B5B0A53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47E6-4134-4113-B8DF-C7096EB5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0804-2622-420C-9DE7-6A525FBC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0198-FBEA-4BE5-AB33-D9ED4867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1262-0DBA-4272-AF69-2579272F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61D4-FF01-454D-841C-18560A39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ED7-8C44-46CF-B1DB-389113C5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8D8A-2431-4668-AB39-A0D9CC7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7EA4-A40B-464E-8A16-1CAAAD24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EC49-1427-4E88-B652-5DCB941E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9D7E-A916-4090-B2E1-487BD0DB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18C0-A27B-4A73-97B7-672508A9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3BE-7164-457F-88B0-B5418391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6FD-EE1E-42BA-81D8-04BD492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F26-2036-4CD3-81F1-C783CAC1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D8F-C660-47C0-AFD8-55E59625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E17-7B3D-474E-AD9E-327B59D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811-9789-41DB-AB89-BDC8299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6EB-CBB6-4C5B-BD19-2FFF73F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1B2-647E-40EE-9446-3C5819498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185A-63A7-4F27-ACDA-660930B27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327672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36576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rd of Av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spense is built, usually the “good guys” and the “bad guys” make preliminary moves against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13654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look like the “bay guys” are going to win. This gets the audience more involved - they want to know what happen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86600" y="419112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good guys” get better and begin to close the gap with the “bad guys”. The audience is ready for the final victory - but we do not reach it in this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 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lusion - the final battle, the “good guys” win. There could be a twist or turn that is unexpected but generally, a win is inevi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his act is much shorter than the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ragedies, some (or many) of the characters are d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medies, all is resolved happ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E’ and ‘THOU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guage is at least 40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written for an audience for whom this language was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57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ril 23 156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Stratford-upon-Av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d and went to school there until the age of thirteen (no evidence that he went to univers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18, he married Anne Hath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daughter, Susanna is bo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ns, Judith and Hamnet are bo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for London with a traveling performance comp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gan writing his ow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well-known as an actor, and his plays were sponsored by the Earl of Southamp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ed the “Lord Chamberlain’s Men” (theatre compa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mnet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ys ‘New Place’ for his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a shareholder in The Globe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part of “The Kings Men” theatre company under King Jame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s over and becomes a shareholder in The Blackfriars Thea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hakespeare returns home to Stratford-upon-Avon to live out his final years with his fami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Globe Theatre burn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4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Globe Theatre is re-buil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6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hakespeare dies on his 52nd birthda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2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irst collected edition of plays publish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002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ll’s Well That Ends 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Cymb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s You Like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Peri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Comedy of E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Winter’s 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Love’s Labour’s L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wo Gentlemen of Ver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easure for Mea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welfth N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Merry Wives of Wind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roilus and Cress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Merchant of Ve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emp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 Midsummer Night’s D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aming of the Shr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uch Ado About 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752480"/>
          <a:ext cx="7772400" cy="228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ntony and Cleopa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Coriola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am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Julius Caes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King 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acbe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Oth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omeo and Jul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imon of Ath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itus Androni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752480"/>
          <a:ext cx="7772400" cy="228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IV, Part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IV, Par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King 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ichard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ichard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flict of the characters is established and the audience ‘takes sides’. The rationale and emotional background of the coming action is given to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1:32:33Z</dcterms:created>
  <dc:creator>Ministry of Education</dc:creator>
  <dc:description/>
  <dc:language>en-US</dc:language>
  <cp:lastModifiedBy>Ministry of Education</cp:lastModifiedBy>
  <dcterms:modified xsi:type="dcterms:W3CDTF">2010-03-04T04:48:34Z</dcterms:modified>
  <cp:revision>9</cp:revision>
  <dc:subject/>
  <dc:title>10 DFT - Shakespeare</dc:title>
</cp:coreProperties>
</file>