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CF434-4400-4A76-B8BB-52C27DC3A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15942-D1CC-45E9-8AD3-7338CD406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3D592-0A33-4F32-9D0A-39C146499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361C4-6B50-4106-9D5D-0092D900B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229CA-3888-4FDE-9692-612D0C682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89F38-A550-4644-8552-2B25389EC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D0E97-E4FF-4107-9969-407A42B8B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67598-B72E-416A-B2E9-D49FC9521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8EC33-4BCE-4FBF-8BA1-34F382810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1FEA3-03E4-4768-95A4-14C74D3DA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21D34-BD09-4C27-9998-3FA6AC32B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39DFB-50CD-48E0-BF5F-A981718B6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C967C-96CF-4375-8D0A-D0882371F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F6EED-CC1A-4D21-BB42-B9B5DBFA4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B7461-04E8-467E-A9A3-8B0FC113F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0FD7F-73A4-49E2-83CE-DA02A30C6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A28C1-9D33-4DA3-8213-60A12338D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0DFAD-545D-4812-B98F-5C52D5C78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AC6C6-B502-454D-BE60-13D66546C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20E09-2E78-4983-90F7-2A9E337AF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20ABD-04B8-4586-B3A4-FC6AD71A5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900A-F334-4F23-8E64-87112F93A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421F8-4CF3-4540-8509-B32F68E78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EA145-8FFA-43C7-A5B1-49F27F6FB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D183-0E89-4CDC-A02A-CFABC9D44171}"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D0E1-DCD7-4F7B-8194-DBF5920C946F}"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hakespeare</a:t>
            </a:r>
            <a:endParaRPr b="0" lang="en-US" sz="4400" spc="-1" strike="noStrike">
              <a:solidFill>
                <a:srgbClr val="000000"/>
              </a:solidFill>
              <a:latin typeface="Trebuchet MS"/>
            </a:endParaRPr>
          </a:p>
        </p:txBody>
      </p:sp>
      <p:sp>
        <p:nvSpPr>
          <p:cNvPr id="83" name="PlaceHolder 2"/>
          <p:cNvSpPr>
            <a:spLocks noGrp="1"/>
          </p:cNvSpPr>
          <p:nvPr>
            <p:ph type="subTitle"/>
          </p:nvPr>
        </p:nvSpPr>
        <p:spPr>
          <a:xfrm>
            <a:off x="1371600" y="3809520"/>
            <a:ext cx="6400800" cy="1752840"/>
          </a:xfrm>
          <a:prstGeom prst="rect">
            <a:avLst/>
          </a:prstGeom>
          <a:noFill/>
          <a:ln w="0">
            <a:noFill/>
          </a:ln>
          <a:effectLst>
            <a:outerShdw dist="12783" dir="10216345"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themes in Macbeth</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s</a:t>
            </a:r>
            <a:endParaRPr b="0" lang="en-US" sz="4400" spc="-1" strike="noStrike">
              <a:solidFill>
                <a:srgbClr val="000000"/>
              </a:solidFill>
              <a:latin typeface="Trebuchet MS"/>
            </a:endParaRPr>
          </a:p>
        </p:txBody>
      </p:sp>
      <p:sp>
        <p:nvSpPr>
          <p:cNvPr id="85" name="PlaceHolder 2"/>
          <p:cNvSpPr>
            <a:spLocks noGrp="1"/>
          </p:cNvSpPr>
          <p:nvPr>
            <p:ph/>
          </p:nvPr>
        </p:nvSpPr>
        <p:spPr>
          <a:xfrm>
            <a:off x="685800" y="1981080"/>
            <a:ext cx="41148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re are 6 key themes in Shakespeare’s Macbeth. As you watch or study the play, consider these themes (or main ideas)</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86" name="" descr=""/>
          <p:cNvPicPr/>
          <p:nvPr/>
        </p:nvPicPr>
        <p:blipFill>
          <a:blip r:embed="rId2"/>
          <a:stretch/>
        </p:blipFill>
        <p:spPr>
          <a:xfrm>
            <a:off x="5159520" y="1676520"/>
            <a:ext cx="268920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1 Good and Evil</a:t>
            </a:r>
            <a:endParaRPr b="0" lang="en-US" sz="4400" spc="-1" strike="noStrike">
              <a:solidFill>
                <a:srgbClr val="000000"/>
              </a:solidFill>
              <a:latin typeface="Trebuchet MS"/>
            </a:endParaRPr>
          </a:p>
        </p:txBody>
      </p:sp>
      <p:sp>
        <p:nvSpPr>
          <p:cNvPr id="8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4000"/>
          </a:bodyPr>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theme is not confined to Macbeth, it appears in nearly all of Shakespeare’s plays.</a:t>
            </a:r>
            <a:endParaRPr b="0" lang="en-US" sz="2800" spc="-1" strike="noStrike">
              <a:solidFill>
                <a:srgbClr val="000000"/>
              </a:solidFill>
              <a:latin typeface="Trebuchet MS"/>
            </a:endParaRPr>
          </a:p>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sometimes difficult to determine “good” and “evil”in Macbeth. </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are times where it is obvious to us that Macbeth and Lady Macbeth are evil, yet they must be good at some points else we would not feel anything when they meet their respective fate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cduff is a noble man yet he leaves his family and flees to Englan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2 Appearances often hide the reality</a:t>
            </a:r>
            <a:endParaRPr b="0" lang="en-US" sz="4400" spc="-1" strike="noStrike">
              <a:solidFill>
                <a:srgbClr val="000000"/>
              </a:solidFill>
              <a:latin typeface="Trebuchet MS"/>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quivocation - the use of words in one sense while meaning the opposite in order to deliberately mislead or confuse.</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Witches deliberately try to mislead Macbeth when they tell him “that none of woman born” shall harm him.</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dy Macbeth urges her husband to “look like the innocent flower but be the serpent under it”</a:t>
            </a:r>
            <a:endParaRPr b="0" lang="en-US" sz="2400" spc="-1" strike="noStrike">
              <a:solidFill>
                <a:srgbClr val="000000"/>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3 Reversal of Values</a:t>
            </a:r>
            <a:endParaRPr b="0" lang="en-US" sz="4400" spc="-1" strike="noStrike">
              <a:solidFill>
                <a:srgbClr val="000000"/>
              </a:solidFill>
              <a:latin typeface="Trebuchet MS"/>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the beginning of the play, the forces of good (Duncan) are overthrown by those of evil. (Macbeth and the Witche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Fair is foul, and foul is fair”</a:t>
            </a:r>
            <a:endParaRPr b="0" lang="en-US" sz="2000" spc="-1" strike="noStrike">
              <a:solidFill>
                <a:srgbClr val="000000"/>
              </a:solidFill>
              <a:latin typeface="Trebuchet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roughout the play, Good tries to re-assert itself (which it eventually does when Macbeth fall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dy Macbeth prays to the forces of evil to help her destroy all that is soft and feminine about herself so she can “be filled from the crown to the toe, top full of direst cruelty” </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4 Overthrow of the natural order</a:t>
            </a:r>
            <a:endParaRPr b="0" lang="en-US" sz="4400" spc="-1" strike="noStrike">
              <a:solidFill>
                <a:srgbClr val="000000"/>
              </a:solidFill>
              <a:latin typeface="Trebuchet MS"/>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is linked to theme #3 since the unnatural acts are accompanied by unnatural events in nature</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en Duncan is murdered, darkness seemed to cover the earth and his horses ate each other.</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of the meetings with the Witches is accompanied by a storm, lightning and thun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5 Ambition</a:t>
            </a:r>
            <a:endParaRPr b="0" lang="en-US" sz="4400" spc="-1" strike="noStrike">
              <a:solidFill>
                <a:srgbClr val="000000"/>
              </a:solidFill>
              <a:latin typeface="Trebuchet MS"/>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mbition (in particular to be King)</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oth Banquo and Macbeth are shown to be ambitious at the beginning of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et when they are both given prophecies from the Witches, only one commits murder to fulfill their own “vaulting ambition”</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6 The importance of loyalty and honour in society </a:t>
            </a:r>
            <a:endParaRPr b="0" lang="en-US" sz="4400" spc="-1" strike="noStrike">
              <a:solidFill>
                <a:srgbClr val="000000"/>
              </a:solidFill>
              <a:latin typeface="Trebuchet MS"/>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ntroduced early in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raitor, the Thane of Cawdor is put to death for his disloyalt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ronically, just as Macbeth is at the ‘height’ of his loyalty to Duncan, he commits the mur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50:04Z</dcterms:created>
  <dc:creator>Ministry of Education</dc:creator>
  <dc:description/>
  <dc:language>en-US</dc:language>
  <cp:lastModifiedBy>Ministry of Education</cp:lastModifiedBy>
  <dcterms:modified xsi:type="dcterms:W3CDTF">2010-03-04T02:11:16Z</dcterms:modified>
  <cp:revision>6</cp:revision>
  <dc:subject/>
  <dc:title>Shakespeare</dc:title>
</cp:coreProperties>
</file>