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pct" ContentType="image/x-pict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9D4F-E126-48EB-9C85-9D20B1AC7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6CD9-C4FE-41F4-A2F0-28BABA90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134D-E038-4662-9CC9-67901B151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919A-7B3D-4E10-BF23-71B884527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4E74-9155-42D9-922D-E7A67D429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384C9-FEC1-481C-B60A-6B5021CB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6159-6C52-4A03-84D0-C288F1E2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8B6C-801C-4F0F-87C5-D4B3EC4F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489C-7670-4D6E-AAD1-153B90C0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4B60-166B-444E-AA27-89D053E0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E8E1-8F86-4027-AD28-5BC7A914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FC96-8E8D-4167-BDA2-E05D504B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B9A9-64A3-4877-9635-A72BE7A9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E880-BD8E-4B3E-961E-DEDE32CA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305B-2CCF-401F-BFA3-4EF5A306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9E65-940F-40F5-B05F-252D9D885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7C656-1328-4543-B7C1-A6B640E47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E448-83D1-4953-B78C-425D4A97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FCE6-B809-44DE-9F23-E72B6427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A269-BB51-445F-8B1A-4108D688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D913-55E1-4B0B-975A-583A79DA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5328-8767-4F41-8BD0-8D644D3B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3737-BA3B-407A-8C4A-0B3BF269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74B8-A105-4CB6-92EA-A98726FE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D175-8D01-4FC3-8FA5-325D8BFFCBB6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046A-67D9-4B49-9C61-40523F3CD841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 algn="ctr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 algn="ctr">
              <a:spcBef>
                <a:spcPts val="4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2392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eatures of Melodrama theat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atures of the theatre 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oi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4076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0920" indent="-33480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Also had to conform to the code of Melodra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3000" indent="-3330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Hero = ten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3000" indent="-3330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Villain = b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3000" indent="-3330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Heroine = light sopra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3000" indent="-3330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Soubrette = Mezzo (Alt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0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724280" y="2057400"/>
            <a:ext cx="3851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udien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2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Going to the theatre today is tame in comparison to the nineteenth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2920" indent="-32040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The character of Melodrama was influenced, developed by the audience (not the playwrights, theatre managers or directo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2920" indent="-32040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As an actor, if you stepped outside of the expected code, the audience would be ruthless because you did not meet their expectations. Failure to do so could well have ended your care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udien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Performances could last up to five ho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920" indent="-33480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Alcohol was readily available in the theatre. Actors therefore were often targets for bottles, as were other members of the audi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920" indent="-33480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In order to control such a crowd, a dynamic acting style was need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920" indent="-33480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Explicit sexual references in plays were banned, which is ironic considering that at that time there were side-slips in the gallery where prostitutes worked during dull moments in the pla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7 Features of the for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Features that are key to this gen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181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stereotypical charac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181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exaggerated story l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181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the theme of good triumphing over ev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181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emphasis on action and sen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181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romantic love - often the cause of str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181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sentiment - much evident emotion such as grief, horror, despair, greed, env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181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audience participation encouraged by cue cards and speaking directly to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181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audi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1816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exaggerated acting style e.g. gasps, swooning, striking po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lodrama - origi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Melodrama -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from Melody and Drama, originally the word 'melodrama' simply meant 'drama with music'. Melodrama is essentially a visual form of theatre with stereotypical characters, sensational stage effects and plot contrivances (virtue triumphing over vice, plot dominating characterisation.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At its most popular in 18th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lodrama - origi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  <a:ea typeface="Arial"/>
              </a:rPr>
              <a:t>Out of this very simple structure, other types evolv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domestic melodr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nautical melodr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military melodr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temperance and gambling melodr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ock Charact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9280" indent="-3488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Were used so that audiences could relate to what was going on (without actually needing to hear absolutely everything)</a:t>
            </a:r>
            <a:br>
              <a:rPr sz="2800"/>
            </a:b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3470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Hero and Heroine - g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3470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Villain - ev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3470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Male Servant - comic rel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3470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Soubrette (female servant) - comic rel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3470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Old Man and Old Wo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ting Sty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76964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  <a:ea typeface="Arial"/>
              </a:rPr>
              <a:t>Physical and highly stylis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  <a:ea typeface="Arial"/>
              </a:rPr>
              <a:t>Movement was large, overblown and genero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  <a:ea typeface="Arial"/>
              </a:rPr>
              <a:t>Voices were loud, clear and overst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ting Sty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76964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4600" indent="-3452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Acting conformed to a code, meaning was conveyed through stance and ges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There were acting manuals that had very strict rules that the actors had to follow to portray emo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0360" indent="-3434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A hand to the forehead = suff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360" indent="-3434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A hand over the heart = virtue, honesty, faithful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360" indent="-3434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A downcast head = def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member…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33480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In melodrama, we aren’t expected as actors to actually experience the particular emotion (like in the Stanislavski method) we are simply expected to indicate the feeling to the audience. </a:t>
            </a:r>
            <a:br>
              <a:rPr sz="2800"/>
            </a:b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0920" indent="-33480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The audience expected this style of acting. If you tried to be ‘real’ you were invariably </a:t>
            </a:r>
            <a:br>
              <a:rPr sz="2800"/>
            </a:b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boo-ed off the stag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0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stum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4076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The ‘code’ extended to the costu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Hero = dressed in white. May have often wore a military uniform or in nautical plays, a sailor’s unifor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181480" y="1905120"/>
            <a:ext cx="33102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stum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4076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Villain = dressed in bl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Male Servant = checked vest and jacket (com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Ragged clothes indicated pove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181480" y="1905120"/>
            <a:ext cx="33102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02:11:41Z</dcterms:created>
  <dc:creator>Ministry of Education</dc:creator>
  <dc:description/>
  <dc:language>en-US</dc:language>
  <cp:lastModifiedBy>Ministry of Education</cp:lastModifiedBy>
  <dcterms:modified xsi:type="dcterms:W3CDTF">2010-05-11T23:14:07Z</dcterms:modified>
  <cp:revision>10</cp:revision>
  <dc:subject/>
  <dc:title>Features of Elizabethan theatre</dc:title>
</cp:coreProperties>
</file>