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C00B-5B87-48E9-9240-6C1F30B2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EBE-05F8-44A7-99EC-F05519B5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0751-88D5-4A87-8F12-DC953D9E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18B0-CE8A-4762-8C40-8C8B81DD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2778-B6AC-49AD-8711-A320ED6C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7817-B385-4368-9003-415E9185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2A62-C5A8-4F76-9973-0DC272DD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6CA3-F1D7-4008-8C16-CEE3574D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9304-4010-47ED-8DC0-C57AFCE4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EAB5-5CDD-42E8-89DD-1380AB8F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4F4D-E257-4EBF-A06C-DA5AD31E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2010-46FA-4AB5-8212-8AB5C48B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ADEE-A8A6-45E8-94B8-EACF9C9B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A2A1-7443-438A-ACDA-0F61DBBA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BA0A-6885-4BF3-9C45-07096D5B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55B4-3028-4203-A4F4-596495E2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F2F7-4B25-452B-BFE9-D8BCCDB7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B72-47B3-432E-B4D9-C9588B65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CFF5-6D73-4856-9C8B-E4820C06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1811-076D-4D3E-B03D-92571FE3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6788-C411-4C47-81EF-D1051F28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795-96A1-4D68-952C-CE66AFD3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E894-C5F1-41AE-A813-E6F7281E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EDB-37D0-499A-B59B-2573289B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B9DE-2A62-4CD3-89C7-CC4C0D9E0E9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2768-40B8-4D8F-8335-10DBDBA8ADA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atures of Melodrama theat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tures of the theatre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076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lso had to conform to the code of Melodra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Hero = ten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Villain = b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Heroine = light sopr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Soubrette = Mezzo (Al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851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die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2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Going to the theatre today is tame in comparison to the nineteenth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character of Melodrama was influenced, developed by the audience (not the playwrights, theatre managers or direc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s an actor, if you stepped outside of the expected code, the audience would be ruthless because you did not meet their expectations. Failure to do so could well have ended your care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die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Performances could last up to five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lcohol was readily available in the theatre. Actors therefore were often targets for bottles, as were other members of the aud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In order to control such a crowd, a dynamic acting style was nee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Explicit sexual references in plays were banned, which is ironic considering that at that time there were side-slips in the gallery where prostitutes worked during dull moments in the pla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 Features of the 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Features that are key to this gen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stereotypical charac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exaggerated story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theme of good triumphing over e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emphasis on action and sen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romantic love - often the cause of str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sentiment - much evident emotion such as grief, horror, despair, greed, env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udience participation encouraged by cue cards and speaking directly to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udi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1816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exaggerated acting style e.g. gasps, swooning, striking 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lodrama - orig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Melodrama -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from Melody and Drama, originally the word 'melodrama' simply meant 'drama with music'. Melodrama is essentially a visual form of theatre with stereotypical characters, sensational stage effects and plot contrivances (virtue triumphing over vice, plot dominating characterisation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t its most popular in 18th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lodrama - orig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Out of this very simple structure, other types evolv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domestic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nautical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military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emperance and gambling melod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ock Charac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9280" indent="-3488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Were used so that audiences could relate to what was going on (without actually needing to hear absolutely everything)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Hero and Heroine - g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Villain - ev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Male Servant - comic rel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Soubrette (female servant) - comic rel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Old Man and Old Wo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ting Sty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Physical and highly styli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Movement was large, overblown and gener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  <a:ea typeface="Arial"/>
              </a:rPr>
              <a:t>Voices were loud, clear and overst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ting Sty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Acting conformed to a code, meaning was conveyed through stance and ges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re were acting manuals that had very strict rules that the actors had to follow to portray emo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0360" indent="-3434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 hand to the forehead = suff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360" indent="-3434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 hand over the heart = virtue, honesty, faithful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360" indent="-3434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A downcast head = def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member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In melodrama, we aren’t expected as actors to actually experience the particular emotion (like in the Stanislavski method) we are simply expected to indicate the feeling to the audience. 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audience expected this style of acting. If you tried to be ‘real’ you were invariably 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boo-ed off the stag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tu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076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The ‘code’ extended to the costu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  <a:ea typeface="Arial"/>
              </a:rPr>
              <a:t>Hero = dressed in white. May have often wore a military uniform or in nautical plays, a sailor’s uni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310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tu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076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Villain = dressed in bl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Male Servant = checked vest and jacket (com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Ragged clothes indicated pov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310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2:11:41Z</dcterms:created>
  <dc:creator>Ministry of Education</dc:creator>
  <dc:description/>
  <dc:language>en-US</dc:language>
  <cp:lastModifiedBy>Ministry of Education</cp:lastModifiedBy>
  <dcterms:modified xsi:type="dcterms:W3CDTF">2010-05-11T23:14:07Z</dcterms:modified>
  <cp:revision>10</cp:revision>
  <dc:subject/>
  <dc:title>Features of Elizabethan theatre</dc:title>
</cp:coreProperties>
</file>