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ct" ContentType="image/x-pict"/>
  <Override PartName="/ppt/media/image2.jpeg" ContentType="image/jpeg"/>
  <Override PartName="/ppt/media/image3.jpeg" ContentType="image/jpeg"/>
  <Override PartName="/ppt/media/image4.pct" ContentType="image/x-pict"/>
  <Override PartName="/ppt/media/image5.jpeg" ContentType="image/jpeg"/>
  <Override PartName="/ppt/media/image6.jpeg" ContentType="image/jpeg"/>
  <Override PartName="/ppt/media/image8.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0B6736-E2AE-4EF0-B803-54C5650D2D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10D44-D40B-43A0-A5EC-19E7E78C5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D03BFF-8766-4F1D-8EE6-C41F40760E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D70DF1-FF7A-4B40-8C29-FAFD269FB8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0036DA-4839-4DB2-9329-AFAAB3E5B6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B27C39-2BD2-4B2A-A15E-4D5804204C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2145E6-19B6-4810-A3A3-01A8324095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5BB7F9-F2ED-42D0-B294-E47946A4E4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D79634-74BD-4823-8EE8-652201E9AC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02959A-AE87-4FB6-81F3-596286BF3F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962960-7FEF-4128-87CB-6EFF31B813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2A18B-31B2-4FBE-A4A4-554D3407E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F1C9F5-FA15-4D5B-A55A-7B34ABE03A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6940A8-5105-4342-AD0A-44632CB73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D00654-0528-44A0-A65D-864A9D7094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5A5727-2211-4BAE-9A18-AC737C5425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A6AFE0-13BC-4043-8D3C-AEBC7F83AC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37D4A-7958-4A94-ABFB-14F01C0D2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794F9-2D77-47C0-8739-F94C0FFED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12396-C5A5-4953-8C74-5108D5544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CF9B2-4140-4234-9E6D-BF951BA3B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A8F66-853E-44BF-A4DC-F5DC90033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D8286-DFEE-456B-B5DC-BCBD9F3D2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E7175-7DA5-406A-B320-AED08A0E3B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2286000"/>
            <a:ext cx="9144000" cy="3581280"/>
            <a:chOff x="0" y="2286000"/>
            <a:chExt cx="9144000" cy="3581280"/>
          </a:xfrm>
        </p:grpSpPr>
        <p:sp>
          <p:nvSpPr>
            <p:cNvPr id="1" name=""/>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 name=""/>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 name=""/>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 name=""/>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 name=""/>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 name=""/>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 name=""/>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 name=""/>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 name=""/>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6" name=""/>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 name=""/>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 name=""/>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 name=""/>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 name=""/>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1" name=""/>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2" name=""/>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3" name=""/>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 name=""/>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 name=""/>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 name=""/>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 name=""/>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 name=""/>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 name=""/>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 name=""/>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 name=""/>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 name=""/>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 name=""/>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BD6CA-E097-45D1-BF04-B6BC1FE8B0BF}"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pic>
        <p:nvPicPr>
          <p:cNvPr id="69" name=""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
          <p:cNvGrpSpPr/>
          <p:nvPr/>
        </p:nvGrpSpPr>
        <p:grpSpPr>
          <a:xfrm>
            <a:off x="0" y="3124080"/>
            <a:ext cx="9144000" cy="3581640"/>
            <a:chOff x="0" y="3124080"/>
            <a:chExt cx="9144000" cy="3581640"/>
          </a:xfrm>
        </p:grpSpPr>
        <p:sp>
          <p:nvSpPr>
            <p:cNvPr id="107" name=""/>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 name=""/>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 name=""/>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0" name=""/>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 name=""/>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 name=""/>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 name=""/>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6" name=""/>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 name=""/>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 name=""/>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9" name=""/>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 name=""/>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1" name=""/>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3" name=""/>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 name=""/>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6" name=""/>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7" name=""/>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1" name=""/>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 name=""/>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3" name=""/>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7" name=""/>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0" name=""/>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1" name=""/>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3" name=""/>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5" name=""/>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6" name=""/>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7" name=""/>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8" name=""/>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9" name=""/>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 name=""/>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 name=""/>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 name=""/>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 name=""/>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 name=""/>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 name=""/>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 name=""/>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sp>
        <p:nvSpPr>
          <p:cNvPr id="170" name="PlaceHolder 1"/>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171" name="PlaceHolder 2"/>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172" name="PlaceHolder 3"/>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3" name=""/>
          <p:cNvSpPr/>
          <p:nvPr/>
        </p:nvSpPr>
        <p:spPr>
          <a:xfrm rot="16200000">
            <a:off x="3871080" y="1005120"/>
            <a:ext cx="150840" cy="4845240"/>
          </a:xfrm>
          <a:custGeom>
            <a:avLst/>
            <a:gdLst/>
            <a:ahLst/>
            <a:rect l="l" t="t" r="r" b="b"/>
            <a:pathLst>
              <a:path w="95" h="3052">
                <a:moveTo>
                  <a:pt x="4" y="3052"/>
                </a:moveTo>
                <a:lnTo>
                  <a:pt x="4" y="3032"/>
                </a:lnTo>
                <a:lnTo>
                  <a:pt x="5" y="3008"/>
                </a:lnTo>
                <a:lnTo>
                  <a:pt x="12" y="2948"/>
                </a:lnTo>
                <a:lnTo>
                  <a:pt x="19" y="2882"/>
                </a:lnTo>
                <a:lnTo>
                  <a:pt x="21" y="2846"/>
                </a:lnTo>
                <a:lnTo>
                  <a:pt x="23" y="2810"/>
                </a:lnTo>
                <a:lnTo>
                  <a:pt x="26" y="2736"/>
                </a:lnTo>
                <a:lnTo>
                  <a:pt x="28" y="2662"/>
                </a:lnTo>
                <a:lnTo>
                  <a:pt x="32" y="2596"/>
                </a:lnTo>
                <a:lnTo>
                  <a:pt x="35" y="2540"/>
                </a:lnTo>
                <a:lnTo>
                  <a:pt x="44" y="2426"/>
                </a:lnTo>
                <a:lnTo>
                  <a:pt x="43" y="2444"/>
                </a:lnTo>
                <a:lnTo>
                  <a:pt x="35" y="2540"/>
                </a:lnTo>
                <a:lnTo>
                  <a:pt x="32" y="2602"/>
                </a:lnTo>
                <a:lnTo>
                  <a:pt x="28" y="2676"/>
                </a:lnTo>
                <a:lnTo>
                  <a:pt x="36" y="2582"/>
                </a:lnTo>
                <a:lnTo>
                  <a:pt x="40" y="2540"/>
                </a:lnTo>
                <a:lnTo>
                  <a:pt x="45" y="2504"/>
                </a:lnTo>
                <a:lnTo>
                  <a:pt x="48" y="2456"/>
                </a:lnTo>
                <a:lnTo>
                  <a:pt x="50" y="2404"/>
                </a:lnTo>
                <a:lnTo>
                  <a:pt x="52" y="2350"/>
                </a:lnTo>
                <a:lnTo>
                  <a:pt x="54" y="2294"/>
                </a:lnTo>
                <a:lnTo>
                  <a:pt x="54" y="2184"/>
                </a:lnTo>
                <a:lnTo>
                  <a:pt x="52" y="2074"/>
                </a:lnTo>
                <a:lnTo>
                  <a:pt x="52" y="1966"/>
                </a:lnTo>
                <a:lnTo>
                  <a:pt x="52" y="1916"/>
                </a:lnTo>
                <a:lnTo>
                  <a:pt x="55" y="1854"/>
                </a:lnTo>
                <a:lnTo>
                  <a:pt x="57" y="1794"/>
                </a:lnTo>
                <a:lnTo>
                  <a:pt x="59" y="1768"/>
                </a:lnTo>
                <a:lnTo>
                  <a:pt x="61" y="1746"/>
                </a:lnTo>
                <a:lnTo>
                  <a:pt x="59" y="1786"/>
                </a:lnTo>
                <a:lnTo>
                  <a:pt x="57" y="1826"/>
                </a:lnTo>
                <a:lnTo>
                  <a:pt x="55" y="1906"/>
                </a:lnTo>
                <a:lnTo>
                  <a:pt x="55" y="1986"/>
                </a:lnTo>
                <a:lnTo>
                  <a:pt x="55" y="2068"/>
                </a:lnTo>
                <a:lnTo>
                  <a:pt x="57" y="2230"/>
                </a:lnTo>
                <a:lnTo>
                  <a:pt x="57" y="2310"/>
                </a:lnTo>
                <a:lnTo>
                  <a:pt x="55" y="2392"/>
                </a:lnTo>
                <a:lnTo>
                  <a:pt x="56" y="2374"/>
                </a:lnTo>
                <a:lnTo>
                  <a:pt x="58" y="2290"/>
                </a:lnTo>
                <a:lnTo>
                  <a:pt x="58" y="2204"/>
                </a:lnTo>
                <a:lnTo>
                  <a:pt x="57" y="2034"/>
                </a:lnTo>
                <a:lnTo>
                  <a:pt x="58" y="1974"/>
                </a:lnTo>
                <a:lnTo>
                  <a:pt x="57" y="2034"/>
                </a:lnTo>
                <a:lnTo>
                  <a:pt x="59" y="2108"/>
                </a:lnTo>
                <a:lnTo>
                  <a:pt x="60" y="2188"/>
                </a:lnTo>
                <a:lnTo>
                  <a:pt x="60" y="2242"/>
                </a:lnTo>
                <a:lnTo>
                  <a:pt x="60" y="2294"/>
                </a:lnTo>
                <a:lnTo>
                  <a:pt x="58" y="2336"/>
                </a:lnTo>
                <a:lnTo>
                  <a:pt x="56" y="2374"/>
                </a:lnTo>
                <a:lnTo>
                  <a:pt x="54" y="2426"/>
                </a:lnTo>
                <a:lnTo>
                  <a:pt x="54" y="2442"/>
                </a:lnTo>
                <a:lnTo>
                  <a:pt x="56" y="2428"/>
                </a:lnTo>
                <a:lnTo>
                  <a:pt x="58" y="2408"/>
                </a:lnTo>
                <a:lnTo>
                  <a:pt x="62" y="2348"/>
                </a:lnTo>
                <a:lnTo>
                  <a:pt x="64" y="2270"/>
                </a:lnTo>
                <a:lnTo>
                  <a:pt x="66" y="2180"/>
                </a:lnTo>
                <a:lnTo>
                  <a:pt x="68" y="2006"/>
                </a:lnTo>
                <a:lnTo>
                  <a:pt x="68" y="1900"/>
                </a:lnTo>
                <a:lnTo>
                  <a:pt x="68" y="1858"/>
                </a:lnTo>
                <a:lnTo>
                  <a:pt x="67" y="1818"/>
                </a:lnTo>
                <a:lnTo>
                  <a:pt x="67" y="1776"/>
                </a:lnTo>
                <a:lnTo>
                  <a:pt x="68" y="1732"/>
                </a:lnTo>
                <a:lnTo>
                  <a:pt x="71" y="1704"/>
                </a:lnTo>
                <a:lnTo>
                  <a:pt x="72" y="1690"/>
                </a:lnTo>
                <a:lnTo>
                  <a:pt x="72" y="1678"/>
                </a:lnTo>
                <a:lnTo>
                  <a:pt x="72" y="1672"/>
                </a:lnTo>
                <a:lnTo>
                  <a:pt x="72" y="1660"/>
                </a:lnTo>
                <a:lnTo>
                  <a:pt x="74" y="1628"/>
                </a:lnTo>
                <a:lnTo>
                  <a:pt x="78" y="1598"/>
                </a:lnTo>
                <a:lnTo>
                  <a:pt x="80" y="1570"/>
                </a:lnTo>
                <a:lnTo>
                  <a:pt x="81" y="1544"/>
                </a:lnTo>
                <a:lnTo>
                  <a:pt x="82" y="1534"/>
                </a:lnTo>
                <a:lnTo>
                  <a:pt x="84" y="1520"/>
                </a:lnTo>
                <a:lnTo>
                  <a:pt x="88" y="1492"/>
                </a:lnTo>
                <a:lnTo>
                  <a:pt x="94" y="1466"/>
                </a:lnTo>
                <a:lnTo>
                  <a:pt x="95" y="1456"/>
                </a:lnTo>
                <a:lnTo>
                  <a:pt x="95" y="1452"/>
                </a:lnTo>
                <a:lnTo>
                  <a:pt x="91" y="1442"/>
                </a:lnTo>
                <a:lnTo>
                  <a:pt x="90" y="1440"/>
                </a:lnTo>
                <a:lnTo>
                  <a:pt x="90" y="1436"/>
                </a:lnTo>
                <a:lnTo>
                  <a:pt x="92" y="1422"/>
                </a:lnTo>
                <a:lnTo>
                  <a:pt x="93" y="1390"/>
                </a:lnTo>
                <a:lnTo>
                  <a:pt x="90" y="1372"/>
                </a:lnTo>
                <a:lnTo>
                  <a:pt x="88" y="1360"/>
                </a:lnTo>
                <a:lnTo>
                  <a:pt x="87" y="1348"/>
                </a:lnTo>
                <a:lnTo>
                  <a:pt x="86" y="1320"/>
                </a:lnTo>
                <a:lnTo>
                  <a:pt x="84" y="1298"/>
                </a:lnTo>
                <a:lnTo>
                  <a:pt x="82" y="1274"/>
                </a:lnTo>
                <a:lnTo>
                  <a:pt x="79" y="1244"/>
                </a:lnTo>
                <a:lnTo>
                  <a:pt x="75" y="1198"/>
                </a:lnTo>
                <a:lnTo>
                  <a:pt x="74" y="1164"/>
                </a:lnTo>
                <a:lnTo>
                  <a:pt x="73" y="1130"/>
                </a:lnTo>
                <a:lnTo>
                  <a:pt x="69" y="1090"/>
                </a:lnTo>
                <a:lnTo>
                  <a:pt x="66" y="1032"/>
                </a:lnTo>
                <a:lnTo>
                  <a:pt x="63" y="980"/>
                </a:lnTo>
                <a:lnTo>
                  <a:pt x="63" y="924"/>
                </a:lnTo>
                <a:lnTo>
                  <a:pt x="63" y="876"/>
                </a:lnTo>
                <a:lnTo>
                  <a:pt x="63" y="830"/>
                </a:lnTo>
                <a:lnTo>
                  <a:pt x="66" y="784"/>
                </a:lnTo>
                <a:lnTo>
                  <a:pt x="63" y="756"/>
                </a:lnTo>
                <a:lnTo>
                  <a:pt x="62" y="726"/>
                </a:lnTo>
                <a:lnTo>
                  <a:pt x="60" y="662"/>
                </a:lnTo>
                <a:lnTo>
                  <a:pt x="58" y="598"/>
                </a:lnTo>
                <a:lnTo>
                  <a:pt x="55" y="536"/>
                </a:lnTo>
                <a:lnTo>
                  <a:pt x="52" y="486"/>
                </a:lnTo>
                <a:lnTo>
                  <a:pt x="51" y="444"/>
                </a:lnTo>
                <a:lnTo>
                  <a:pt x="54" y="360"/>
                </a:lnTo>
                <a:lnTo>
                  <a:pt x="54" y="334"/>
                </a:lnTo>
                <a:lnTo>
                  <a:pt x="54" y="314"/>
                </a:lnTo>
                <a:lnTo>
                  <a:pt x="54" y="304"/>
                </a:lnTo>
                <a:lnTo>
                  <a:pt x="52" y="290"/>
                </a:lnTo>
                <a:lnTo>
                  <a:pt x="51" y="274"/>
                </a:lnTo>
                <a:lnTo>
                  <a:pt x="51" y="258"/>
                </a:lnTo>
                <a:lnTo>
                  <a:pt x="54" y="262"/>
                </a:lnTo>
                <a:lnTo>
                  <a:pt x="55" y="238"/>
                </a:lnTo>
                <a:lnTo>
                  <a:pt x="55" y="232"/>
                </a:lnTo>
                <a:lnTo>
                  <a:pt x="56" y="234"/>
                </a:lnTo>
                <a:lnTo>
                  <a:pt x="58" y="236"/>
                </a:lnTo>
                <a:lnTo>
                  <a:pt x="59" y="238"/>
                </a:lnTo>
                <a:lnTo>
                  <a:pt x="60" y="236"/>
                </a:lnTo>
                <a:lnTo>
                  <a:pt x="61" y="230"/>
                </a:lnTo>
                <a:lnTo>
                  <a:pt x="63" y="190"/>
                </a:lnTo>
                <a:lnTo>
                  <a:pt x="66" y="150"/>
                </a:lnTo>
                <a:lnTo>
                  <a:pt x="66" y="110"/>
                </a:lnTo>
                <a:lnTo>
                  <a:pt x="66" y="72"/>
                </a:lnTo>
                <a:lnTo>
                  <a:pt x="64" y="68"/>
                </a:lnTo>
                <a:lnTo>
                  <a:pt x="62" y="64"/>
                </a:lnTo>
                <a:lnTo>
                  <a:pt x="63" y="40"/>
                </a:lnTo>
                <a:lnTo>
                  <a:pt x="61" y="38"/>
                </a:lnTo>
                <a:lnTo>
                  <a:pt x="60" y="36"/>
                </a:lnTo>
                <a:lnTo>
                  <a:pt x="58" y="34"/>
                </a:lnTo>
                <a:lnTo>
                  <a:pt x="57" y="32"/>
                </a:lnTo>
                <a:lnTo>
                  <a:pt x="55" y="30"/>
                </a:lnTo>
                <a:lnTo>
                  <a:pt x="52" y="26"/>
                </a:lnTo>
                <a:lnTo>
                  <a:pt x="48" y="12"/>
                </a:lnTo>
                <a:lnTo>
                  <a:pt x="44" y="2"/>
                </a:lnTo>
                <a:lnTo>
                  <a:pt x="41" y="0"/>
                </a:lnTo>
                <a:lnTo>
                  <a:pt x="39" y="0"/>
                </a:lnTo>
                <a:lnTo>
                  <a:pt x="37" y="8"/>
                </a:lnTo>
                <a:lnTo>
                  <a:pt x="34" y="28"/>
                </a:lnTo>
                <a:lnTo>
                  <a:pt x="31" y="50"/>
                </a:lnTo>
                <a:lnTo>
                  <a:pt x="26" y="68"/>
                </a:lnTo>
                <a:lnTo>
                  <a:pt x="26" y="70"/>
                </a:lnTo>
                <a:lnTo>
                  <a:pt x="25" y="70"/>
                </a:lnTo>
                <a:lnTo>
                  <a:pt x="24" y="66"/>
                </a:lnTo>
                <a:lnTo>
                  <a:pt x="22" y="56"/>
                </a:lnTo>
                <a:lnTo>
                  <a:pt x="20" y="72"/>
                </a:lnTo>
                <a:lnTo>
                  <a:pt x="19" y="80"/>
                </a:lnTo>
                <a:lnTo>
                  <a:pt x="17" y="80"/>
                </a:lnTo>
                <a:lnTo>
                  <a:pt x="16" y="80"/>
                </a:lnTo>
                <a:lnTo>
                  <a:pt x="15" y="72"/>
                </a:lnTo>
                <a:lnTo>
                  <a:pt x="14" y="86"/>
                </a:lnTo>
                <a:lnTo>
                  <a:pt x="11" y="78"/>
                </a:lnTo>
                <a:lnTo>
                  <a:pt x="5" y="134"/>
                </a:lnTo>
                <a:lnTo>
                  <a:pt x="1" y="190"/>
                </a:lnTo>
                <a:lnTo>
                  <a:pt x="0" y="220"/>
                </a:lnTo>
                <a:lnTo>
                  <a:pt x="0" y="248"/>
                </a:lnTo>
                <a:lnTo>
                  <a:pt x="0" y="274"/>
                </a:lnTo>
                <a:lnTo>
                  <a:pt x="1" y="302"/>
                </a:lnTo>
                <a:lnTo>
                  <a:pt x="3" y="328"/>
                </a:lnTo>
                <a:lnTo>
                  <a:pt x="7" y="358"/>
                </a:lnTo>
                <a:lnTo>
                  <a:pt x="7" y="374"/>
                </a:lnTo>
                <a:lnTo>
                  <a:pt x="7" y="390"/>
                </a:lnTo>
                <a:lnTo>
                  <a:pt x="9" y="396"/>
                </a:lnTo>
                <a:lnTo>
                  <a:pt x="11" y="400"/>
                </a:lnTo>
                <a:lnTo>
                  <a:pt x="14" y="404"/>
                </a:lnTo>
                <a:lnTo>
                  <a:pt x="15" y="450"/>
                </a:lnTo>
                <a:lnTo>
                  <a:pt x="16" y="502"/>
                </a:lnTo>
                <a:lnTo>
                  <a:pt x="17" y="526"/>
                </a:lnTo>
                <a:lnTo>
                  <a:pt x="20" y="544"/>
                </a:lnTo>
                <a:lnTo>
                  <a:pt x="22" y="556"/>
                </a:lnTo>
                <a:lnTo>
                  <a:pt x="23" y="558"/>
                </a:lnTo>
                <a:lnTo>
                  <a:pt x="25" y="558"/>
                </a:lnTo>
                <a:lnTo>
                  <a:pt x="26" y="584"/>
                </a:lnTo>
                <a:lnTo>
                  <a:pt x="28" y="602"/>
                </a:lnTo>
                <a:lnTo>
                  <a:pt x="32" y="622"/>
                </a:lnTo>
                <a:lnTo>
                  <a:pt x="34" y="648"/>
                </a:lnTo>
                <a:lnTo>
                  <a:pt x="38" y="740"/>
                </a:lnTo>
                <a:lnTo>
                  <a:pt x="40" y="790"/>
                </a:lnTo>
                <a:lnTo>
                  <a:pt x="41" y="840"/>
                </a:lnTo>
                <a:lnTo>
                  <a:pt x="43" y="896"/>
                </a:lnTo>
                <a:lnTo>
                  <a:pt x="41" y="952"/>
                </a:lnTo>
                <a:lnTo>
                  <a:pt x="41" y="992"/>
                </a:lnTo>
                <a:lnTo>
                  <a:pt x="43" y="1094"/>
                </a:lnTo>
                <a:lnTo>
                  <a:pt x="46" y="1190"/>
                </a:lnTo>
                <a:lnTo>
                  <a:pt x="50" y="1282"/>
                </a:lnTo>
                <a:lnTo>
                  <a:pt x="55" y="1370"/>
                </a:lnTo>
                <a:lnTo>
                  <a:pt x="57" y="1414"/>
                </a:lnTo>
                <a:lnTo>
                  <a:pt x="56" y="1456"/>
                </a:lnTo>
                <a:lnTo>
                  <a:pt x="55" y="1500"/>
                </a:lnTo>
                <a:lnTo>
                  <a:pt x="52" y="1544"/>
                </a:lnTo>
                <a:lnTo>
                  <a:pt x="46" y="1636"/>
                </a:lnTo>
                <a:lnTo>
                  <a:pt x="40" y="1736"/>
                </a:lnTo>
                <a:lnTo>
                  <a:pt x="38" y="1786"/>
                </a:lnTo>
                <a:lnTo>
                  <a:pt x="38" y="1838"/>
                </a:lnTo>
                <a:lnTo>
                  <a:pt x="37" y="1942"/>
                </a:lnTo>
                <a:lnTo>
                  <a:pt x="39" y="2046"/>
                </a:lnTo>
                <a:lnTo>
                  <a:pt x="40" y="2148"/>
                </a:lnTo>
                <a:lnTo>
                  <a:pt x="41" y="2248"/>
                </a:lnTo>
                <a:lnTo>
                  <a:pt x="40" y="2344"/>
                </a:lnTo>
                <a:lnTo>
                  <a:pt x="39" y="2392"/>
                </a:lnTo>
                <a:lnTo>
                  <a:pt x="37" y="2438"/>
                </a:lnTo>
                <a:lnTo>
                  <a:pt x="35" y="2482"/>
                </a:lnTo>
                <a:lnTo>
                  <a:pt x="31" y="2526"/>
                </a:lnTo>
                <a:lnTo>
                  <a:pt x="25" y="2612"/>
                </a:lnTo>
                <a:lnTo>
                  <a:pt x="22" y="2692"/>
                </a:lnTo>
                <a:lnTo>
                  <a:pt x="20" y="2766"/>
                </a:lnTo>
                <a:lnTo>
                  <a:pt x="15" y="2830"/>
                </a:lnTo>
                <a:lnTo>
                  <a:pt x="11" y="2886"/>
                </a:lnTo>
                <a:lnTo>
                  <a:pt x="5" y="2936"/>
                </a:lnTo>
                <a:lnTo>
                  <a:pt x="2" y="2976"/>
                </a:lnTo>
                <a:lnTo>
                  <a:pt x="1" y="2994"/>
                </a:lnTo>
                <a:lnTo>
                  <a:pt x="0" y="3010"/>
                </a:lnTo>
                <a:lnTo>
                  <a:pt x="2" y="3032"/>
                </a:lnTo>
                <a:lnTo>
                  <a:pt x="4" y="305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PlaceHolder 4"/>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74A8D-6F14-4521-AFC9-8830D26636F8}"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111240" algn="ctr">
              <a:spcBef>
                <a:spcPts val="70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39680" algn="ctr">
              <a:spcBef>
                <a:spcPts val="601"/>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71360" algn="ctr">
              <a:spcBef>
                <a:spcPts val="499"/>
              </a:spcBef>
              <a:buClr>
                <a:srgbClr val="4068a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223920" algn="ctr">
              <a:spcBef>
                <a:spcPts val="4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564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eatures of Elizabethan theatre</a:t>
            </a:r>
            <a:endParaRPr b="0" lang="en-US" sz="4400" spc="-1" strike="noStrike">
              <a:solidFill>
                <a:srgbClr val="ffffff"/>
              </a:solidFill>
              <a:latin typeface="Arial"/>
            </a:endParaRPr>
          </a:p>
        </p:txBody>
      </p:sp>
      <p:sp>
        <p:nvSpPr>
          <p:cNvPr id="213" name="PlaceHolder 2"/>
          <p:cNvSpPr>
            <a:spLocks noGrp="1"/>
          </p:cNvSpPr>
          <p:nvPr>
            <p:ph type="subTitle"/>
          </p:nvPr>
        </p:nvSpPr>
        <p:spPr>
          <a:xfrm>
            <a:off x="1371600" y="3886200"/>
            <a:ext cx="6400800" cy="1752480"/>
          </a:xfrm>
          <a:prstGeom prst="rect">
            <a:avLst/>
          </a:prstGeom>
          <a:solidFill>
            <a:srgbClr val="ffffff"/>
          </a:solidFill>
          <a:ln w="9360">
            <a:solidFill>
              <a:srgbClr val="000000"/>
            </a:solidFill>
            <a:miter/>
          </a:ln>
        </p:spPr>
        <p:txBody>
          <a:bodyPr lIns="90000" rIns="90000" tIns="46800" bIns="46800"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 features of the theatre for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anguage and Delivery</a:t>
            </a:r>
            <a:endParaRPr b="0" lang="en-US" sz="4000" spc="-1" strike="noStrike">
              <a:solidFill>
                <a:srgbClr val="ffffff"/>
              </a:solidFill>
              <a:latin typeface="Arial"/>
            </a:endParaRPr>
          </a:p>
        </p:txBody>
      </p:sp>
      <p:sp>
        <p:nvSpPr>
          <p:cNvPr id="237" name="PlaceHolder 2"/>
          <p:cNvSpPr>
            <a:spLocks noGrp="1"/>
          </p:cNvSpPr>
          <p:nvPr>
            <p:ph/>
          </p:nvPr>
        </p:nvSpPr>
        <p:spPr>
          <a:xfrm>
            <a:off x="571320" y="1980720"/>
            <a:ext cx="4762440" cy="4496040"/>
          </a:xfrm>
          <a:prstGeom prst="rect">
            <a:avLst/>
          </a:prstGeom>
          <a:noFill/>
          <a:ln w="0">
            <a:noFill/>
          </a:ln>
        </p:spPr>
        <p:txBody>
          <a:bodyPr lIns="90000" rIns="90000" tIns="46800" bIns="46800" anchor="t">
            <a:normAutofit/>
          </a:bodyPr>
          <a:p>
            <a:pPr marL="453960" indent="-352440">
              <a:lnSpc>
                <a:spcPct val="10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akespeare wrote in these styles:</a:t>
            </a:r>
            <a:endParaRPr b="0" lang="en-US" sz="2000" spc="-1" strike="noStrike">
              <a:solidFill>
                <a:srgbClr val="ffffff"/>
              </a:solidFill>
              <a:latin typeface="Arial"/>
            </a:endParaRPr>
          </a:p>
          <a:p>
            <a:pPr lvl="1" marL="919080" indent="-350640">
              <a:lnSpc>
                <a:spcPct val="100000"/>
              </a:lnSpc>
              <a:spcBef>
                <a:spcPts val="45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mbic pentameter (10 syllables to the line, with 5 strong and 5 weak beats). This mirrors a heartbeat.</a:t>
            </a:r>
            <a:endParaRPr b="0" lang="en-US" sz="1800" spc="-1" strike="noStrike">
              <a:solidFill>
                <a:srgbClr val="ffffff"/>
              </a:solidFill>
              <a:latin typeface="Arial"/>
            </a:endParaRPr>
          </a:p>
          <a:p>
            <a:pPr lvl="1" marL="919080" indent="-350640">
              <a:lnSpc>
                <a:spcPct val="100000"/>
              </a:lnSpc>
              <a:spcBef>
                <a:spcPts val="45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lank verse</a:t>
            </a:r>
            <a:endParaRPr b="0" lang="en-US" sz="1800" spc="-1" strike="noStrike">
              <a:solidFill>
                <a:srgbClr val="ffffff"/>
              </a:solidFill>
              <a:latin typeface="Arial"/>
            </a:endParaRPr>
          </a:p>
          <a:p>
            <a:pPr lvl="1" marL="919080" indent="-350640">
              <a:lnSpc>
                <a:spcPct val="100000"/>
              </a:lnSpc>
              <a:spcBef>
                <a:spcPts val="45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hyming verse</a:t>
            </a:r>
            <a:endParaRPr b="0" lang="en-US" sz="1800" spc="-1" strike="noStrike">
              <a:solidFill>
                <a:srgbClr val="ffffff"/>
              </a:solidFill>
              <a:latin typeface="Arial"/>
            </a:endParaRPr>
          </a:p>
          <a:p>
            <a:pPr marL="453960" indent="-352440">
              <a:lnSpc>
                <a:spcPct val="10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of the text is in prose. In order to make sense, the text should be read to the punctuation, not to the end of a line.</a:t>
            </a:r>
            <a:endParaRPr b="0" lang="en-US" sz="2000" spc="-1" strike="noStrike">
              <a:solidFill>
                <a:srgbClr val="ffffff"/>
              </a:solidFill>
              <a:latin typeface="Arial"/>
            </a:endParaRPr>
          </a:p>
          <a:p>
            <a:pPr marL="453960" indent="-352440">
              <a:lnSpc>
                <a:spcPct val="10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r speech should not sound like you are performing poetry - it should seem as natural speech.</a:t>
            </a:r>
            <a:endParaRPr b="0" lang="en-US" sz="2000" spc="-1" strike="noStrike">
              <a:solidFill>
                <a:srgbClr val="ffffff"/>
              </a:solidFill>
              <a:latin typeface="Arial"/>
            </a:endParaRPr>
          </a:p>
        </p:txBody>
      </p:sp>
      <p:pic>
        <p:nvPicPr>
          <p:cNvPr id="238" name="" descr=""/>
          <p:cNvPicPr/>
          <p:nvPr/>
        </p:nvPicPr>
        <p:blipFill>
          <a:blip r:embed="rId1"/>
          <a:stretch/>
        </p:blipFill>
        <p:spPr>
          <a:xfrm>
            <a:off x="5715000" y="1566720"/>
            <a:ext cx="2989440" cy="491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n Stage</a:t>
            </a:r>
            <a:endParaRPr b="0" lang="en-US" sz="4000" spc="-1" strike="noStrike">
              <a:solidFill>
                <a:srgbClr val="ffffff"/>
              </a:solidFill>
              <a:latin typeface="Arial"/>
            </a:endParaRPr>
          </a:p>
        </p:txBody>
      </p:sp>
      <p:sp>
        <p:nvSpPr>
          <p:cNvPr id="240"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usic and dancing were part of the theatre form, as were sword fights. </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lizabethan actors were accomplished at stage sword fighting since it was something that was usual to th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udience</a:t>
            </a:r>
            <a:endParaRPr b="0" lang="en-US" sz="4000" spc="-1" strike="noStrike">
              <a:solidFill>
                <a:srgbClr val="ffffff"/>
              </a:solidFill>
              <a:latin typeface="Arial"/>
            </a:endParaRPr>
          </a:p>
        </p:txBody>
      </p:sp>
      <p:sp>
        <p:nvSpPr>
          <p:cNvPr id="242"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groundlings paid a small entry fee and stood for the duration of the performance in front of the stage. </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ealthy people bought seats in the galleries or sat on the stage itself.</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emale Actors?</a:t>
            </a:r>
            <a:endParaRPr b="0" lang="en-US" sz="4000" spc="-1" strike="noStrike">
              <a:solidFill>
                <a:srgbClr val="ffffff"/>
              </a:solidFill>
              <a:latin typeface="Arial"/>
            </a:endParaRPr>
          </a:p>
        </p:txBody>
      </p:sp>
      <p:sp>
        <p:nvSpPr>
          <p:cNvPr id="244"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omen were not permitted to act so female roles were played by young boys whose voices had not yet broken. </a:t>
            </a:r>
            <a:endParaRPr b="0" lang="en-US" sz="3200" spc="-1" strike="noStrike">
              <a:solidFill>
                <a:srgbClr val="ffffff"/>
              </a:solidFill>
              <a:latin typeface="Arial"/>
            </a:endParaRPr>
          </a:p>
        </p:txBody>
      </p:sp>
      <p:pic>
        <p:nvPicPr>
          <p:cNvPr id="245" name="" descr=""/>
          <p:cNvPicPr/>
          <p:nvPr/>
        </p:nvPicPr>
        <p:blipFill>
          <a:blip r:embed="rId1"/>
          <a:stretch/>
        </p:blipFill>
        <p:spPr>
          <a:xfrm>
            <a:off x="2819520" y="3657600"/>
            <a:ext cx="3047760" cy="3032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ummary</a:t>
            </a:r>
            <a:endParaRPr b="0" lang="en-US" sz="4000" spc="-1" strike="noStrike">
              <a:solidFill>
                <a:srgbClr val="ffffff"/>
              </a:solidFill>
              <a:latin typeface="Arial"/>
            </a:endParaRPr>
          </a:p>
        </p:txBody>
      </p:sp>
      <p:sp>
        <p:nvSpPr>
          <p:cNvPr id="247" name="PlaceHolder 2"/>
          <p:cNvSpPr>
            <a:spLocks noGrp="1"/>
          </p:cNvSpPr>
          <p:nvPr>
            <p:ph/>
          </p:nvPr>
        </p:nvSpPr>
        <p:spPr>
          <a:xfrm>
            <a:off x="380520" y="2209680"/>
            <a:ext cx="4419720" cy="3810240"/>
          </a:xfrm>
          <a:prstGeom prst="rect">
            <a:avLst/>
          </a:prstGeom>
          <a:noFill/>
          <a:ln w="0">
            <a:noFill/>
          </a:ln>
        </p:spPr>
        <p:txBody>
          <a:bodyPr lIns="90000" rIns="90000" tIns="46800" bIns="46800"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ce</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Good’ Acting</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s of Performance</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tage</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umes</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al Effects</a:t>
            </a:r>
            <a:endParaRPr b="0" lang="en-US" sz="2800" spc="-1" strike="noStrike">
              <a:solidFill>
                <a:srgbClr val="ffffff"/>
              </a:solidFill>
              <a:latin typeface="Arial"/>
            </a:endParaRPr>
          </a:p>
          <a:p>
            <a:pPr marL="453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8" name=""/>
          <p:cNvSpPr/>
          <p:nvPr/>
        </p:nvSpPr>
        <p:spPr>
          <a:xfrm>
            <a:off x="4724280" y="1828800"/>
            <a:ext cx="4419720" cy="3809880"/>
          </a:xfrm>
          <a:prstGeom prst="rect">
            <a:avLst/>
          </a:prstGeom>
          <a:noFill/>
          <a:ln w="0">
            <a:noFill/>
          </a:ln>
        </p:spPr>
        <p:style>
          <a:lnRef idx="0"/>
          <a:fillRef idx="0"/>
          <a:effectRef idx="0"/>
          <a:fontRef idx="minor"/>
        </p:style>
        <p:txBody>
          <a:bodyPr lIns="90000" rIns="90000" tIns="46800" bIns="46800" anchor="t">
            <a:normAutofit/>
          </a:bodyPr>
          <a:p>
            <a:pPr marL="453960" indent="-352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Osaka"/>
              </a:rPr>
              <a:t>Stage Directions</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Osaka"/>
              </a:rPr>
              <a:t>Acting Style</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Osaka"/>
              </a:rPr>
              <a:t>Language and Delivery</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Osaka"/>
              </a:rPr>
              <a:t>On Stage</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Osaka"/>
              </a:rPr>
              <a:t>Audience</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Osaka"/>
              </a:rPr>
              <a:t>Female Actors?</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ace</a:t>
            </a:r>
            <a:endParaRPr b="0" lang="en-US" sz="4000" spc="-1" strike="noStrike">
              <a:solidFill>
                <a:srgbClr val="ffffff"/>
              </a:solidFill>
              <a:latin typeface="Arial"/>
            </a:endParaRPr>
          </a:p>
        </p:txBody>
      </p:sp>
      <p:sp>
        <p:nvSpPr>
          <p:cNvPr id="215"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ys were performed quickly - not garbling and rushing off the stage but without the long breaks to change scenes. Actors would have had to use their voices and bodies expressively to convey mood and mean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
            </a:r>
            <a:r>
              <a:rPr b="0" lang="en-US" sz="4000" spc="-1" strike="noStrike">
                <a:solidFill>
                  <a:srgbClr val="ffffff"/>
                </a:solidFill>
                <a:latin typeface="Arial"/>
              </a:rPr>
              <a:t>Good’ Acting</a:t>
            </a:r>
            <a:endParaRPr b="0" lang="en-US" sz="4000" spc="-1" strike="noStrike">
              <a:solidFill>
                <a:srgbClr val="ffffff"/>
              </a:solidFill>
              <a:latin typeface="Arial"/>
            </a:endParaRPr>
          </a:p>
        </p:txBody>
      </p:sp>
      <p:sp>
        <p:nvSpPr>
          <p:cNvPr id="217" name="PlaceHolder 2"/>
          <p:cNvSpPr>
            <a:spLocks noGrp="1"/>
          </p:cNvSpPr>
          <p:nvPr>
            <p:ph/>
          </p:nvPr>
        </p:nvSpPr>
        <p:spPr>
          <a:xfrm>
            <a:off x="6091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acting was natural but ‘big’, with a lot of energy and sexuality. The acoustics in theatres meant that actors did not necessarily have to shout to be heard, but they would need to speak clearl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imes of Performances</a:t>
            </a:r>
            <a:endParaRPr b="0" lang="en-US" sz="4000" spc="-1" strike="noStrike">
              <a:solidFill>
                <a:srgbClr val="ffffff"/>
              </a:solidFill>
              <a:latin typeface="Arial"/>
            </a:endParaRPr>
          </a:p>
        </p:txBody>
      </p:sp>
      <p:sp>
        <p:nvSpPr>
          <p:cNvPr id="21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ys were performed in the afternoon as there was no lighting for night performances. </a:t>
            </a:r>
            <a:endParaRPr b="0" lang="en-US" sz="3200" spc="-1" strike="noStrike">
              <a:solidFill>
                <a:srgbClr val="ffffff"/>
              </a:solidFill>
              <a:latin typeface="Arial"/>
            </a:endParaRPr>
          </a:p>
        </p:txBody>
      </p:sp>
      <p:pic>
        <p:nvPicPr>
          <p:cNvPr id="220" name="" descr=""/>
          <p:cNvPicPr/>
          <p:nvPr/>
        </p:nvPicPr>
        <p:blipFill>
          <a:blip r:embed="rId1"/>
          <a:stretch/>
        </p:blipFill>
        <p:spPr>
          <a:xfrm>
            <a:off x="4343400" y="3657600"/>
            <a:ext cx="3657600" cy="2438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Stage</a:t>
            </a:r>
            <a:endParaRPr b="0" lang="en-US" sz="4000" spc="-1" strike="noStrike">
              <a:solidFill>
                <a:srgbClr val="ffffff"/>
              </a:solidFill>
              <a:latin typeface="Arial"/>
            </a:endParaRPr>
          </a:p>
        </p:txBody>
      </p:sp>
      <p:sp>
        <p:nvSpPr>
          <p:cNvPr id="222" name="PlaceHolder 2"/>
          <p:cNvSpPr>
            <a:spLocks noGrp="1"/>
          </p:cNvSpPr>
          <p:nvPr>
            <p:ph/>
          </p:nvPr>
        </p:nvSpPr>
        <p:spPr>
          <a:xfrm>
            <a:off x="571320" y="1981080"/>
            <a:ext cx="4609800" cy="3810240"/>
          </a:xfrm>
          <a:prstGeom prst="rect">
            <a:avLst/>
          </a:prstGeom>
          <a:noFill/>
          <a:ln w="0">
            <a:noFill/>
          </a:ln>
        </p:spPr>
        <p:txBody>
          <a:bodyPr lIns="90000" rIns="90000" tIns="46800" bIns="46800" anchor="t">
            <a:normAutofit fontScale="81000"/>
          </a:bodyPr>
          <a:p>
            <a:pPr marL="367560" indent="-28512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ges were round or polygonal and open to the sky although there was usually a canopy over the stage. </a:t>
            </a:r>
            <a:endParaRPr b="0" lang="en-US" sz="2800" spc="-1" strike="noStrike">
              <a:solidFill>
                <a:srgbClr val="ffffff"/>
              </a:solidFill>
              <a:latin typeface="Arial"/>
            </a:endParaRPr>
          </a:p>
          <a:p>
            <a:pPr marL="367560" indent="-28512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doors at the back of the stage lead to the dressing rooms. </a:t>
            </a:r>
            <a:endParaRPr b="0" lang="en-US" sz="2800" spc="-1" strike="noStrike">
              <a:solidFill>
                <a:srgbClr val="ffffff"/>
              </a:solidFill>
              <a:latin typeface="Arial"/>
            </a:endParaRPr>
          </a:p>
          <a:p>
            <a:pPr marL="367560" indent="-28512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were no curtains, the audience could see everything.</a:t>
            </a:r>
            <a:endParaRPr b="0" lang="en-US" sz="2800" spc="-1" strike="noStrike">
              <a:solidFill>
                <a:srgbClr val="ffffff"/>
              </a:solidFill>
              <a:latin typeface="Arial"/>
            </a:endParaRPr>
          </a:p>
        </p:txBody>
      </p:sp>
      <p:pic>
        <p:nvPicPr>
          <p:cNvPr id="223" name="" descr=""/>
          <p:cNvPicPr/>
          <p:nvPr/>
        </p:nvPicPr>
        <p:blipFill>
          <a:blip r:embed="rId1"/>
          <a:stretch/>
        </p:blipFill>
        <p:spPr>
          <a:xfrm>
            <a:off x="5257800" y="1981080"/>
            <a:ext cx="3251160" cy="3962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stumes</a:t>
            </a:r>
            <a:endParaRPr b="0" lang="en-US" sz="4000" spc="-1" strike="noStrike">
              <a:solidFill>
                <a:srgbClr val="ffffff"/>
              </a:solidFill>
              <a:latin typeface="Arial"/>
            </a:endParaRPr>
          </a:p>
        </p:txBody>
      </p:sp>
      <p:sp>
        <p:nvSpPr>
          <p:cNvPr id="225" name="PlaceHolder 2"/>
          <p:cNvSpPr>
            <a:spLocks noGrp="1"/>
          </p:cNvSpPr>
          <p:nvPr>
            <p:ph/>
          </p:nvPr>
        </p:nvSpPr>
        <p:spPr>
          <a:xfrm>
            <a:off x="571680" y="1981080"/>
            <a:ext cx="4076640" cy="3810240"/>
          </a:xfrm>
          <a:prstGeom prst="rect">
            <a:avLst/>
          </a:prstGeom>
          <a:noFill/>
          <a:ln w="0">
            <a:noFill/>
          </a:ln>
        </p:spPr>
        <p:txBody>
          <a:bodyPr lIns="90000" rIns="90000" tIns="46800" bIns="46800"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umes were likely to be fashionable and contemporary (at the time)</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were used to indicate the character’s status or profession.</a:t>
            </a:r>
            <a:endParaRPr b="0" lang="en-US" sz="2800" spc="-1" strike="noStrike">
              <a:solidFill>
                <a:srgbClr val="ffffff"/>
              </a:solidFill>
              <a:latin typeface="Arial"/>
            </a:endParaRPr>
          </a:p>
        </p:txBody>
      </p:sp>
      <p:pic>
        <p:nvPicPr>
          <p:cNvPr id="226" name="" descr=""/>
          <p:cNvPicPr/>
          <p:nvPr/>
        </p:nvPicPr>
        <p:blipFill>
          <a:blip r:embed="rId1"/>
          <a:stretch/>
        </p:blipFill>
        <p:spPr>
          <a:xfrm>
            <a:off x="5181480" y="1905120"/>
            <a:ext cx="3310200" cy="358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pecial Effects</a:t>
            </a:r>
            <a:endParaRPr b="0" lang="en-US" sz="4000" spc="-1" strike="noStrike">
              <a:solidFill>
                <a:srgbClr val="ffffff"/>
              </a:solidFill>
              <a:latin typeface="Arial"/>
            </a:endParaRPr>
          </a:p>
        </p:txBody>
      </p:sp>
      <p:sp>
        <p:nvSpPr>
          <p:cNvPr id="228" name="PlaceHolder 2"/>
          <p:cNvSpPr>
            <a:spLocks noGrp="1"/>
          </p:cNvSpPr>
          <p:nvPr>
            <p:ph/>
          </p:nvPr>
        </p:nvSpPr>
        <p:spPr>
          <a:xfrm>
            <a:off x="304920" y="1980720"/>
            <a:ext cx="4495680" cy="4419720"/>
          </a:xfrm>
          <a:prstGeom prst="rect">
            <a:avLst/>
          </a:prstGeom>
          <a:noFill/>
          <a:ln w="0">
            <a:noFill/>
          </a:ln>
        </p:spPr>
        <p:txBody>
          <a:bodyPr lIns="90000" rIns="90000" tIns="46800" bIns="46800" anchor="t">
            <a:normAutofit/>
          </a:bodyPr>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al effects were a part of the performances. In particular, a bladder filled with pigs blood was used (concealed under a tunic) if someone was to be stabbed and could therefore ‘bleed.’</a:t>
            </a:r>
            <a:endParaRPr b="0" lang="en-US" sz="2400" spc="-1" strike="noStrike">
              <a:solidFill>
                <a:srgbClr val="ffffff"/>
              </a:solidFill>
              <a:latin typeface="Arial"/>
            </a:endParaRPr>
          </a:p>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eworks were also used to replicate lightning and give fights on stage more emphasis.</a:t>
            </a:r>
            <a:endParaRPr b="0" lang="en-US" sz="2400" spc="-1" strike="noStrike">
              <a:solidFill>
                <a:srgbClr val="ffffff"/>
              </a:solidFill>
              <a:latin typeface="Arial"/>
            </a:endParaRPr>
          </a:p>
        </p:txBody>
      </p:sp>
      <p:pic>
        <p:nvPicPr>
          <p:cNvPr id="229" name="" descr=""/>
          <p:cNvPicPr/>
          <p:nvPr/>
        </p:nvPicPr>
        <p:blipFill>
          <a:blip r:embed="rId1"/>
          <a:stretch/>
        </p:blipFill>
        <p:spPr>
          <a:xfrm>
            <a:off x="4952880" y="1676520"/>
            <a:ext cx="2975040" cy="3657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age Directions</a:t>
            </a:r>
            <a:endParaRPr b="0" lang="en-US" sz="4000" spc="-1" strike="noStrike">
              <a:solidFill>
                <a:srgbClr val="ffffff"/>
              </a:solidFill>
              <a:latin typeface="Arial"/>
            </a:endParaRPr>
          </a:p>
        </p:txBody>
      </p:sp>
      <p:sp>
        <p:nvSpPr>
          <p:cNvPr id="231" name="PlaceHolder 2"/>
          <p:cNvSpPr>
            <a:spLocks noGrp="1"/>
          </p:cNvSpPr>
          <p:nvPr>
            <p:ph/>
          </p:nvPr>
        </p:nvSpPr>
        <p:spPr>
          <a:xfrm>
            <a:off x="571680" y="1981080"/>
            <a:ext cx="4076640" cy="3810240"/>
          </a:xfrm>
          <a:prstGeom prst="rect">
            <a:avLst/>
          </a:prstGeom>
          <a:noFill/>
          <a:ln w="0">
            <a:noFill/>
          </a:ln>
        </p:spPr>
        <p:txBody>
          <a:bodyPr lIns="90000" rIns="90000" tIns="46800" bIns="46800" anchor="t">
            <a:normAutofit/>
          </a:bodyPr>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kespeare gave many of the stage directions in the actual text of his plays.</a:t>
            </a:r>
            <a:endParaRPr b="0" lang="en-US" sz="2400" spc="-1" strike="noStrike">
              <a:solidFill>
                <a:srgbClr val="ffffff"/>
              </a:solidFill>
              <a:latin typeface="Arial"/>
            </a:endParaRPr>
          </a:p>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 Hamlet’s speech to the players…</a:t>
            </a:r>
            <a:br>
              <a:rPr sz="2400"/>
            </a:br>
            <a:r>
              <a:rPr b="0" lang="en-US" sz="2400" spc="-1" strike="noStrike">
                <a:solidFill>
                  <a:srgbClr val="ffffff"/>
                </a:solidFill>
                <a:latin typeface="Arial"/>
              </a:rPr>
              <a:t>“speak the speech I pray you”</a:t>
            </a:r>
            <a:endParaRPr b="0" lang="en-US" sz="2400" spc="-1" strike="noStrike">
              <a:solidFill>
                <a:srgbClr val="ffffff"/>
              </a:solidFill>
              <a:latin typeface="Arial"/>
            </a:endParaRPr>
          </a:p>
        </p:txBody>
      </p:sp>
      <p:pic>
        <p:nvPicPr>
          <p:cNvPr id="232" name="" descr=""/>
          <p:cNvPicPr/>
          <p:nvPr/>
        </p:nvPicPr>
        <p:blipFill>
          <a:blip r:embed="rId1"/>
          <a:stretch/>
        </p:blipFill>
        <p:spPr>
          <a:xfrm>
            <a:off x="4952880" y="1447920"/>
            <a:ext cx="3068640" cy="4143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cting Style</a:t>
            </a:r>
            <a:endParaRPr b="0" lang="en-US" sz="4000" spc="-1" strike="noStrike">
              <a:solidFill>
                <a:srgbClr val="ffffff"/>
              </a:solidFill>
              <a:latin typeface="Arial"/>
            </a:endParaRPr>
          </a:p>
        </p:txBody>
      </p:sp>
      <p:sp>
        <p:nvSpPr>
          <p:cNvPr id="234" name="PlaceHolder 2"/>
          <p:cNvSpPr>
            <a:spLocks noGrp="1"/>
          </p:cNvSpPr>
          <p:nvPr>
            <p:ph/>
          </p:nvPr>
        </p:nvSpPr>
        <p:spPr>
          <a:xfrm>
            <a:off x="571320" y="1981080"/>
            <a:ext cx="4228920" cy="3810240"/>
          </a:xfrm>
          <a:prstGeom prst="rect">
            <a:avLst/>
          </a:prstGeom>
          <a:noFill/>
          <a:ln w="0">
            <a:noFill/>
          </a:ln>
        </p:spPr>
        <p:txBody>
          <a:bodyPr lIns="90000" rIns="90000" tIns="46800" bIns="46800" anchor="t">
            <a:normAutofit/>
          </a:bodyPr>
          <a:p>
            <a:pPr marL="453960" indent="-352440">
              <a:lnSpc>
                <a:spcPct val="10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ors had to capture and hold the attention of the audience, therefore their actions and gestures needed to be a lot larger than what we see today. </a:t>
            </a:r>
            <a:endParaRPr b="0" lang="en-US" sz="2000" spc="-1" strike="noStrike">
              <a:solidFill>
                <a:srgbClr val="ffffff"/>
              </a:solidFill>
              <a:latin typeface="Arial"/>
            </a:endParaRPr>
          </a:p>
          <a:p>
            <a:pPr marL="453960" indent="-352440">
              <a:lnSpc>
                <a:spcPct val="10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udience was also very close to the actors on the stage - this was particularly the case at The Globe theatre, where ‘the groundlings’ were directly in front of the stage.</a:t>
            </a:r>
            <a:endParaRPr b="0" lang="en-US" sz="2000" spc="-1" strike="noStrike">
              <a:solidFill>
                <a:srgbClr val="ffffff"/>
              </a:solidFill>
              <a:latin typeface="Arial"/>
            </a:endParaRPr>
          </a:p>
        </p:txBody>
      </p:sp>
      <p:pic>
        <p:nvPicPr>
          <p:cNvPr id="235" name="" descr=""/>
          <p:cNvPicPr/>
          <p:nvPr/>
        </p:nvPicPr>
        <p:blipFill>
          <a:blip r:embed="rId1"/>
          <a:stretch/>
        </p:blipFill>
        <p:spPr>
          <a:xfrm>
            <a:off x="5257800" y="685800"/>
            <a:ext cx="3429000" cy="5486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4T02:11:41Z</dcterms:created>
  <dc:creator>Ministry of Education</dc:creator>
  <dc:description/>
  <dc:language>en-US</dc:language>
  <cp:lastModifiedBy>Ministry of Education</cp:lastModifiedBy>
  <dcterms:modified xsi:type="dcterms:W3CDTF">2010-03-04T04:45:07Z</dcterms:modified>
  <cp:revision>6</cp:revision>
  <dc:subject/>
  <dc:title>Features of Elizabethan theatre</dc:title>
</cp:coreProperties>
</file>