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7043-4D82-4CE1-8792-47AE3539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1E29-4B0C-4B53-8B4B-BF4A4640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705-6EEE-475B-91A8-2BA1E201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249F-9DCD-43BE-B045-02BEB974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D86A-908F-4043-AEB7-91DB53C2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C02C-DD63-4169-BF98-FD869D91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FB69-82CC-4862-AA9F-B67A3630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D5D3-EDAE-4F37-8E1D-6B815890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CD87-3C31-4A7B-8C80-CDB5BBE3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FDB6-61CB-4949-AC0D-34CAE42F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E1A8-444B-4752-9431-A640184D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5E9B-D324-40B2-A8B4-0CF14563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83D5-1A5F-4220-AC09-DFE17368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34BA-FEFF-4145-8B55-72489B19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4827-2AD8-48C2-81A3-FAE23CD5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69C6-3D49-47AC-A171-DBA84850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774D-99A5-41BB-B28B-D27637FF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2949-096D-4BF8-B840-A72D0953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D73B-25ED-4FF4-B30B-03E3FB79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5D6D-980C-49C7-8D88-AB9DF147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279D-66F7-4A37-9BA5-6AA9E184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433A-1D07-4FC8-8727-BFB8EE11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0648-A645-4620-8799-5D778B07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1906-F3E0-44C4-B157-774209FD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0246-7866-442B-BAF3-A6DF7DB0435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A1A5-D9A5-4815-A235-6899B4391DD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atures of Melodrama theat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tures of the theatre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oi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4076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lso had to conform to the code of Melodra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Hero = ten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Villain = b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Heroine = light sopr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Soubrette = Mezzo (Al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3851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dien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2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Going to the theatre today is tame in comparison to the nineteenth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e character of Melodrama was influenced, developed by the audience (not the playwrights, theatre managers or direct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s an actor, if you stepped outside of the expected code, the audience would be ruthless because you did not meet their expectations. Failure to do so could well have ended your care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dien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Performances could last up to five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Alcohol was readily available in the theatre. Actors therefore were often targets for bottles, as were other members of the audi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In order to control such a crowd, a dynamic acting style was need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Explicit sexual references in plays were banned, which is ironic considering that at that time there were side-slips in the gallery where prostitutes worked during dull moments in the pla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 Features of the 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Features that are key to this gen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stereotypical charac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exaggerated story 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e theme of good triumphing over ev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emphasis on action and sen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romantic love - often the cause of str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sentiment - much evident emotion such as grief, horror, despair, greed, env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udience participation encouraged by cue cards and speaking directly to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udi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exaggerated acting style e.g. gasps, swooning, striking p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lodrama - origi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Melodrama -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from Melody and Drama, originally the word 'melodrama' simply meant 'drama with music'. Melodrama is essentially a visual form of theatre with stereotypical characters, sensational stage effects and plot contrivances (virtue triumphing over vice, plot dominating characterisation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t its most popular in 18th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lodrama - origi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Out of this very simple structure, other types evolv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domestic melod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nautical melod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military melod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emperance and gambling melod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ock Charact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9280" indent="-3488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Were used so that audiences could relate to what was going on (without actually needing to hear absolutely everything)</a:t>
            </a:r>
            <a:br>
              <a:rPr sz="2800"/>
            </a:b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47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Hero and Heroine - g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47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Villain - ev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47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Male Servant - comic rel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47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Soubrette (female servant) - comic rel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47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Old Man and Old Wo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ting Sty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6964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Physical and highly styli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Movement was large, overblown and gener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Voices were loud, clear and overst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ting Sty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6964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cting conformed to a code, meaning was conveyed through stance and ges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ere were acting manuals that had very strict rules that the actors had to follow to portray emo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0360" indent="-3434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A hand to the forehead = suff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360" indent="-3434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A hand over the heart = virtue, honesty, faithful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360" indent="-3434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A downcast head = def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member…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3348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In melodrama, we aren’t expected as actors to actually experience the particular emotion (like in the Stanislavski method) we are simply expected to indicate the feeling to the audience. </a:t>
            </a:r>
            <a:br>
              <a:rPr sz="2800"/>
            </a:b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e audience expected this style of acting. If you tried to be ‘real’ you were invariably </a:t>
            </a:r>
            <a:br>
              <a:rPr sz="2800"/>
            </a:b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boo-ed off the stag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stu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4076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e ‘code’ extended to the costu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Hero = dressed in white. May have often wore a military uniform or in nautical plays, a sailor’s unifo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310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stu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4076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Villain = dressed in bl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Male Servant = checked vest and jacket (com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Ragged clothes indicated pov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310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2:11:41Z</dcterms:created>
  <dc:creator>Ministry of Education</dc:creator>
  <dc:description/>
  <dc:language>en-US</dc:language>
  <cp:lastModifiedBy>Ministry of Education</cp:lastModifiedBy>
  <dcterms:modified xsi:type="dcterms:W3CDTF">2010-05-11T23:14:07Z</dcterms:modified>
  <cp:revision>10</cp:revision>
  <dc:subject/>
  <dc:title>Features of Elizabethan theatre</dc:title>
</cp:coreProperties>
</file>