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F29-04A9-4CC7-AE3E-1E043EAB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9BD-98CB-4B3C-8621-322E53A1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445-CB8C-496E-B603-E213F7A7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138-F2D8-4A84-999A-082973F7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3E26-5A2D-4521-8A0F-CEAB0E0C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BE30-F131-4AB6-80EF-4289CAE3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91AB-378E-45CF-A40F-756869E2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9323-3E96-4AB1-A5C2-A551CBB2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C5FF-C686-45E8-92FE-E4DB90DA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64E3-FC67-4D4C-8236-1B078B7F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30BF-8431-486D-BC27-18E4A44D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0FE-13EF-4444-B19B-086076A8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A127-6BAF-4414-B8E4-B7B72DA8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1EFA-5038-4D39-BDB5-8260D8BA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7278-5739-4DDB-B94F-140C0809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42B1-79DA-4281-9145-7B4739DA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70EE-A1C6-4695-9705-27B872E0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827-251A-4490-8515-2484F0B0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EBB-C950-4CF6-BE26-80754881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CC0-888E-409D-8418-D0C72913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693-63B3-49D1-A949-4B834084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8ECA-91D4-4719-9BF7-EA821E68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AE1-717C-44A2-ADF1-833813CE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2E4-B400-43A8-A5C0-F8B155EE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6548-32AC-4832-92CB-F9E2FE7A392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BB81-F2C8-4B22-A1E0-7B7196DAC54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atures of Melodrama theat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tures of the theatre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076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lso had to conform to the code of Melodra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Hero = ten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Villain = b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Heroine = light sopr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Soubrette = Mezzo (Al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85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di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2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Going to the theatre today is tame in comparison to the nineteenth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character of Melodrama was influenced, developed by the audience (not the playwrights, theatre managers or direc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s an actor, if you stepped outside of the expected code, the audience would be ruthless because you did not meet their expectations. Failure to do so could well have ended your care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di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Performances could last up to five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lcohol was readily available in the theatre. Actors therefore were often targets for bottles, as were other members of the aud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In order to control such a crowd, a dynamic acting style was nee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Explicit sexual references in plays were banned, which is ironic considering that at that time there were side-slips in the gallery where prostitutes worked during dull moments in the pla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 Features of the 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Features that are key to this gen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stereotypical charac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exaggerated story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theme of good triumphing over e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emphasis on action and sen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romantic love - often the cause of str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sentiment - much evident emotion such as grief, horror, despair, greed, env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udience participation encouraged by cue cards and speaking directly to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udi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exaggerated acting style e.g. gasps, swooning, striking 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lodrama - orig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Melodrama -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from Melody and Drama, originally the word 'melodrama' simply meant 'drama with music'. Melodrama is essentially a visual form of theatre with stereotypical characters, sensational stage effects and plot contrivances (virtue triumphing over vice, plot dominating characterisation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t its most popular in 18th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lodrama - orig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Out of this very simple structure, other types evolv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domestic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nautical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military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emperance and gambling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ock Charac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9280" indent="-3488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Were used so that audiences could relate to what was going on (without actually needing to hear absolutely everything)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Hero and Heroine - g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Villain - e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Male Servant - comic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Soubrette (female servant) - comic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Old Man and Old Wo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ng Sty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Physical and highly styli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Movement was large, overblown and gener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Voices were loud, clear and overs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ng Sty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cting conformed to a code, meaning was conveyed through stance and ges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re were acting manuals that had very strict rules that the actors had to follow to portray emo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0360" indent="-3434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hand to the forehead = suff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360" indent="-3434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hand over the heart = virtue, honesty, faithful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360" indent="-3434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downcast head = def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member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In melodrama, we aren’t expected as actors to actually experience the particular emotion (like in the Stanislavski method) we are simply expected to indicate the feeling to the audience. 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audience expected this style of acting. If you tried to be ‘real’ you were invariably 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boo-ed off the stag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tu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076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‘code’ extended to the costu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Hero = dressed in white. May have often wore a military uniform or in nautical plays, a sailor’s uni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310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tu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076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Villain = dressed in bl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Male Servant = checked vest and jacket (com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Ragged clothes indicated pov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310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2:11:41Z</dcterms:created>
  <dc:creator>Ministry of Education</dc:creator>
  <dc:description/>
  <dc:language>en-US</dc:language>
  <cp:lastModifiedBy>Ministry of Education</cp:lastModifiedBy>
  <dcterms:modified xsi:type="dcterms:W3CDTF">2010-05-11T23:14:07Z</dcterms:modified>
  <cp:revision>10</cp:revision>
  <dc:subject/>
  <dc:title>Features of Elizabethan theatre</dc:title>
</cp:coreProperties>
</file>