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11A62-FDC9-4584-8D9F-2774E6AC7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7DF5-25E6-45DC-9ED2-35A6ECC6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55E0E-CC18-4DE0-A8D9-01B1610D1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2316F-0805-499F-86C4-390D507F9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ACEFC-365F-4395-BDB2-1886B8987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0D8B3-891F-473C-AA79-3999EF28F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15902-E876-434B-B124-5A9379D3B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789B4-1BFD-4D8D-BB18-D333A6FAF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BC2BC-2528-40E6-8574-3633E848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F3D2B-9AC8-4436-A38A-55C3484B2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29842-77EF-405D-A37C-9DFBA0C0A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42B2-BCE6-48FC-89A2-C403323D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E5F3D-B5DB-4C3F-A63F-1F5D6FDE7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FF846-B87B-4915-9614-67A6D871A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93405-67F6-4760-A3F0-E9F236EBD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22CFB-EF18-4B79-9161-D8BB79E4A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F6E3C-2512-427D-A90B-A056AC5AD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080B-4612-4B9C-AA01-687373CEC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DE8A-9F1B-4134-ADAF-E30F04B4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58DC-9DFB-4A62-A50E-4D313FACF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6E07-87C4-4FC2-BAF2-C21CDEF58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3570-CE66-4FDC-990C-F7915CA2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92A1-67A7-4AC9-B436-B4757D5B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CEE0-C913-4FAA-9FF4-C482DC703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5809-D514-41BA-865F-074378ADA52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B87C-CE0B-4BE4-8795-AB49DFB81F4D}"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s World</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ide to life in </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n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1"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78000"/>
          </a:bodyPr>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g</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l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nimal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ak &amp; Rose</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lant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l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inerals</a:t>
            </a:r>
            <a:endParaRPr b="0" lang="en-US" sz="20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 descr=""/>
          <p:cNvPicPr/>
          <p:nvPr/>
        </p:nvPicPr>
        <p:blipFill>
          <a:blip r:embed="rId1"/>
          <a:stretch/>
        </p:blipFill>
        <p:spPr>
          <a:xfrm>
            <a:off x="5029200" y="1343160"/>
            <a:ext cx="391644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9000"/>
          </a:bodyPr>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r>
              <a:rPr b="0" lang="en-US" sz="3200" spc="-1" strike="noStrike">
                <a:solidFill>
                  <a:srgbClr val="ff6600"/>
                </a:solidFill>
                <a:latin typeface="Arial"/>
              </a:rPr>
              <a:t>The heavens themselves, the planets and their centre,</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bserve degree, priority and place, </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sisture, course, proportion, season, form,</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and custom, in all line of order.”</a:t>
            </a:r>
            <a:endParaRPr b="0" lang="en-US" sz="3200" spc="-1" strike="noStrike">
              <a:solidFill>
                <a:srgbClr val="ffffff"/>
              </a:solidFill>
              <a:latin typeface="Arial"/>
            </a:endParaRPr>
          </a:p>
          <a:p>
            <a:pPr marL="449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oilus and Cress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magic, witches, spells, prophecies, and superstition were all a part of the Elizabethan view of lif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se beliefs were as important to them as the teachings of the chur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etc were thought to lead people to the dev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that did not fit in to society for any reason were branded as witches. They were accused of working for the devil and often burned at the stake or drowned. </a:t>
            </a:r>
            <a:endParaRPr b="0" lang="en-US" sz="2800" spc="-1" strike="noStrike">
              <a:solidFill>
                <a:srgbClr val="ffffff"/>
              </a:solidFill>
              <a:latin typeface="Arial"/>
            </a:endParaRPr>
          </a:p>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witches could:</a:t>
            </a:r>
            <a:endParaRPr b="0" lang="en-US" sz="28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nto the futur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se peopl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plague and diseas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natural disasters (flood etc)</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ans were believers in astrology and the stars because they saw the human body as being a representation of the universe. Therefore, the stars and signs of the zodiac were linked to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the stars could foretell their future (as some people do today with star sig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ere said to be four humours to the human body that could influence your moo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humours were linked to the four elemen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FIRE</a:t>
            </a:r>
            <a:r>
              <a:rPr b="0" lang="en-US" sz="2800" spc="-1" strike="noStrike">
                <a:solidFill>
                  <a:srgbClr val="ffffff"/>
                </a:solidFill>
                <a:latin typeface="Arial"/>
              </a:rPr>
              <a:t>: Melancholy (black bile) = </a:t>
            </a:r>
            <a:r>
              <a:rPr b="0" lang="en-US" sz="2800" spc="-1" strike="noStrike">
                <a:solidFill>
                  <a:srgbClr val="ff6600"/>
                </a:solidFill>
                <a:latin typeface="Arial"/>
              </a:rPr>
              <a:t>‘melancholic’</a:t>
            </a:r>
            <a:r>
              <a:rPr b="0" lang="en-US" sz="2800" spc="-1" strike="noStrike">
                <a:solidFill>
                  <a:srgbClr val="ffffff"/>
                </a:solidFill>
                <a:latin typeface="Arial"/>
              </a:rPr>
              <a:t>. A gloomy state of mind, depressed, dejected.</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WATER</a:t>
            </a:r>
            <a:r>
              <a:rPr b="0" lang="en-US" sz="2800" spc="-1" strike="noStrike">
                <a:solidFill>
                  <a:srgbClr val="ffffff"/>
                </a:solidFill>
                <a:latin typeface="Arial"/>
              </a:rPr>
              <a:t>: Phlegm = </a:t>
            </a:r>
            <a:r>
              <a:rPr b="0" lang="en-US" sz="2800" spc="-1" strike="noStrike">
                <a:solidFill>
                  <a:srgbClr val="ff6600"/>
                </a:solidFill>
                <a:latin typeface="Arial"/>
              </a:rPr>
              <a:t>‘phlegmatic’</a:t>
            </a:r>
            <a:r>
              <a:rPr b="0" lang="en-US" sz="2800" spc="-1" strike="noStrike">
                <a:solidFill>
                  <a:srgbClr val="ffffff"/>
                </a:solidFill>
                <a:latin typeface="Arial"/>
              </a:rPr>
              <a:t> (sluggishness and apathy, or calmness and composur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IR</a:t>
            </a:r>
            <a:r>
              <a:rPr b="0" lang="en-US" sz="2800" spc="-1" strike="noStrike">
                <a:solidFill>
                  <a:srgbClr val="ffffff"/>
                </a:solidFill>
                <a:latin typeface="Arial"/>
              </a:rPr>
              <a:t>: Blood = </a:t>
            </a:r>
            <a:r>
              <a:rPr b="0" lang="en-US" sz="2800" spc="-1" strike="noStrike">
                <a:solidFill>
                  <a:srgbClr val="ff6600"/>
                </a:solidFill>
                <a:latin typeface="Arial"/>
              </a:rPr>
              <a:t>‘sanguine’</a:t>
            </a:r>
            <a:r>
              <a:rPr b="0" lang="en-US" sz="2800" spc="-1" strike="noStrike">
                <a:solidFill>
                  <a:srgbClr val="ffffff"/>
                </a:solidFill>
                <a:latin typeface="Arial"/>
              </a:rPr>
              <a:t> (cheerful, optimistic, hopeful, confid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ARTH</a:t>
            </a:r>
            <a:r>
              <a:rPr b="0" lang="en-US" sz="2800" spc="-1" strike="noStrike">
                <a:solidFill>
                  <a:srgbClr val="ffffff"/>
                </a:solidFill>
                <a:latin typeface="Arial"/>
              </a:rPr>
              <a:t>: Choler (yellow bile) = </a:t>
            </a:r>
            <a:r>
              <a:rPr b="0" lang="en-US" sz="2800" spc="-1" strike="noStrike">
                <a:solidFill>
                  <a:srgbClr val="ff6600"/>
                </a:solidFill>
                <a:latin typeface="Arial"/>
              </a:rPr>
              <a:t>‘choleric’</a:t>
            </a:r>
            <a:r>
              <a:rPr b="0" lang="en-US" sz="2800" spc="-1" strike="noStrike">
                <a:solidFill>
                  <a:srgbClr val="ffffff"/>
                </a:solidFill>
                <a:latin typeface="Arial"/>
              </a:rPr>
              <a:t> (irritable, easily angered)</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8000"/>
          </a:bodyPr>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y religious people in Elizabethan times. They believed strongly in the power of God, and God’s almighty rule over the universe.</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minant Church of England was Roman Catholic but some people were unhappy with the church and felt that it was corrupt.</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formation took place where the unhappy group (Puritans) separated from the Catholic Church and formed their own church, called the Protestant Church.</a:t>
            </a:r>
            <a:endParaRPr b="0" lang="en-US" sz="2400" spc="-1" strike="noStrike">
              <a:solidFill>
                <a:srgbClr val="ffffff"/>
              </a:solidFill>
              <a:latin typeface="Arial"/>
            </a:endParaRPr>
          </a:p>
          <a:p>
            <a:pPr marL="44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itans and Catholics fought in the name of religion. The Puritans wanted to cleanse (or purify) the remaining Catholic elements in England.</a:t>
            </a:r>
            <a:endParaRPr b="0" lang="en-US" sz="24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s believed that many things were the work of the devil (sinful)</a:t>
            </a:r>
            <a:endParaRPr b="0" lang="en-US" sz="24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 clothes</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nk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l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plays</a:t>
            </a:r>
            <a:endParaRPr b="0" lang="en-US" sz="20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time Shakespeare’s plays were being performed, they had relaxed slightly.</a:t>
            </a:r>
            <a:endParaRPr b="0" lang="en-US" sz="2400" spc="-1" strike="noStrike">
              <a:solidFill>
                <a:srgbClr val="ffffff"/>
              </a:solidFill>
              <a:latin typeface="Arial"/>
            </a:endParaRPr>
          </a:p>
          <a:p>
            <a:pPr marL="399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people believed strongly in a ‘chain of being’. This gave order to their universe as everything had its own plac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03:55Z</dcterms:created>
  <dc:creator>Ministry of Education</dc:creator>
  <dc:description/>
  <dc:language>en-US</dc:language>
  <cp:lastModifiedBy>Ministry of Education</cp:lastModifiedBy>
  <dcterms:modified xsi:type="dcterms:W3CDTF">2010-03-03T03:49:53Z</dcterms:modified>
  <cp:revision>4</cp:revision>
  <dc:subject/>
  <dc:title>Shakespeare’s World</dc:title>
</cp:coreProperties>
</file>