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B31D7-303D-4932-87D5-CB5CA3B5C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9EC6C-CE10-4B4C-924C-BD6080C3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CE123-ABF2-4BE8-B9BA-1FDD5CE8E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9A84F-B0DD-46D4-94DD-6804FD373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34C84-2522-4140-837F-127A10CCB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71B09-4E6C-4852-8611-40AEC9CF8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B219-2987-41C6-834D-644676AA9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DFB21-203F-41C6-A5E1-A3D6B6784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9489D-819A-46D4-B53A-C9E416008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2259C-C393-41DA-A837-BE3E6FCB5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4534B-2B09-495F-B5D5-5731C78D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0B34-4124-4217-9D63-C010065A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B467A-C52F-4A95-92D1-26B9CB48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98984-424A-42F4-83EC-FF964E4EA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A8896-B0EB-4F16-BC6B-FAA71BE70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88D08-2588-488C-B195-1B35D1C9E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31257-080D-46E0-BC5D-D00D863D2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43F2-D8B4-4BC0-A094-F0F65B55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5A451-30F0-499E-88D3-637B923B1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FD2E-023B-4C5F-A933-B7254CDF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4DE61-9311-423E-8090-DEE0B626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A3E1-827A-405B-A8B0-983980C4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38A9-DFE3-4F1F-AF6E-1F352A8E8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37D5-04FE-4F11-A9DE-4FAF3F41C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8BAA-49A3-4CEF-8473-FA7458622EC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3907-6EC6-41E2-85C0-8DF188CF585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kespeare’s World</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ide to life in </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an ti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1"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78000"/>
          </a:bodyPr>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g</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nc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ble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on</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nimal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ak &amp; Rose</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lants</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ld</a:t>
            </a:r>
            <a:endParaRPr b="0" lang="en-US" sz="2000" spc="-1" strike="noStrike">
              <a:solidFill>
                <a:srgbClr val="ffffff"/>
              </a:solidFill>
              <a:latin typeface="Arial"/>
            </a:endParaRPr>
          </a:p>
          <a:p>
            <a:pPr marL="35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inerals</a:t>
            </a:r>
            <a:endParaRPr b="0" lang="en-US" sz="20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2" name="" descr=""/>
          <p:cNvPicPr/>
          <p:nvPr/>
        </p:nvPicPr>
        <p:blipFill>
          <a:blip r:embed="rId1"/>
          <a:stretch/>
        </p:blipFill>
        <p:spPr>
          <a:xfrm>
            <a:off x="5029200" y="1343160"/>
            <a:ext cx="3916440" cy="52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9000"/>
          </a:bodyPr>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r>
              <a:rPr b="0" lang="en-US" sz="3200" spc="-1" strike="noStrike">
                <a:solidFill>
                  <a:srgbClr val="ff6600"/>
                </a:solidFill>
                <a:latin typeface="Arial"/>
              </a:rPr>
              <a:t>The heavens themselves, the planets and their centre,</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bserve degree, priority and place, </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sisture, course, proportion, season, form,</a:t>
            </a:r>
            <a:endParaRPr b="0" lang="en-US" sz="3200" spc="-1" strike="noStrike">
              <a:solidFill>
                <a:srgbClr val="ffffff"/>
              </a:solidFill>
              <a:latin typeface="Arial"/>
            </a:endParaRPr>
          </a:p>
          <a:p>
            <a:pPr marL="449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ffice and custom, in all line of order.”</a:t>
            </a:r>
            <a:endParaRPr b="0" lang="en-US" sz="3200" spc="-1" strike="noStrike">
              <a:solidFill>
                <a:srgbClr val="ffffff"/>
              </a:solidFill>
              <a:latin typeface="Arial"/>
            </a:endParaRPr>
          </a:p>
          <a:p>
            <a:pPr marL="449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oilus and Cress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magic, witches, spells, prophecies, and superstition were all a part of the Elizabethan view of lif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se beliefs were as important to them as the teachings of the chur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ies etc were thought to lead people to the dev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that did not fit in to society for any reason were branded as witches. They were accused of working for the devil and often burned at the stake or drowned. </a:t>
            </a:r>
            <a:endParaRPr b="0" lang="en-US" sz="2800" spc="-1" strike="noStrike">
              <a:solidFill>
                <a:srgbClr val="ffffff"/>
              </a:solidFill>
              <a:latin typeface="Arial"/>
            </a:endParaRPr>
          </a:p>
          <a:p>
            <a:pPr marL="385560" indent="-2995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witches could:</a:t>
            </a:r>
            <a:endParaRPr b="0" lang="en-US" sz="28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into the futur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se peopl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plague and disease</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natural disasters (flood etc)</a:t>
            </a:r>
            <a:endParaRPr b="0" lang="en-US" sz="2400" spc="-1" strike="noStrike">
              <a:solidFill>
                <a:srgbClr val="ffffff"/>
              </a:solidFill>
              <a:latin typeface="Arial"/>
            </a:endParaRPr>
          </a:p>
          <a:p>
            <a:pPr lvl="1" marL="781200" indent="-297720">
              <a:lnSpc>
                <a:spcPct val="10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gic  and Superstition</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zabethans were believers in astrology and the stars because they saw the human body as being a representation of the universe. Therefore, the stars and signs of the zodiac were linked to them.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believed that the stars could foretell their future (as some people do today with star sig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e were said to be four humours to the human body that could influence your moo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se humours were linked to the four elemen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Humours</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FIRE</a:t>
            </a:r>
            <a:r>
              <a:rPr b="0" lang="en-US" sz="2800" spc="-1" strike="noStrike">
                <a:solidFill>
                  <a:srgbClr val="ffffff"/>
                </a:solidFill>
                <a:latin typeface="Arial"/>
              </a:rPr>
              <a:t>: Melancholy (black bile) = </a:t>
            </a:r>
            <a:r>
              <a:rPr b="0" lang="en-US" sz="2800" spc="-1" strike="noStrike">
                <a:solidFill>
                  <a:srgbClr val="ff6600"/>
                </a:solidFill>
                <a:latin typeface="Arial"/>
              </a:rPr>
              <a:t>‘melancholic’</a:t>
            </a:r>
            <a:r>
              <a:rPr b="0" lang="en-US" sz="2800" spc="-1" strike="noStrike">
                <a:solidFill>
                  <a:srgbClr val="ffffff"/>
                </a:solidFill>
                <a:latin typeface="Arial"/>
              </a:rPr>
              <a:t>. A gloomy state of mind, depressed, dejected.</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6600"/>
                </a:solidFill>
                <a:latin typeface="Arial"/>
              </a:rPr>
              <a:t>WATER</a:t>
            </a:r>
            <a:r>
              <a:rPr b="0" lang="en-US" sz="2800" spc="-1" strike="noStrike">
                <a:solidFill>
                  <a:srgbClr val="ffffff"/>
                </a:solidFill>
                <a:latin typeface="Arial"/>
              </a:rPr>
              <a:t>: Phlegm = </a:t>
            </a:r>
            <a:r>
              <a:rPr b="0" lang="en-US" sz="2800" spc="-1" strike="noStrike">
                <a:solidFill>
                  <a:srgbClr val="ff6600"/>
                </a:solidFill>
                <a:latin typeface="Arial"/>
              </a:rPr>
              <a:t>‘phlegmatic’</a:t>
            </a:r>
            <a:r>
              <a:rPr b="0" lang="en-US" sz="2800" spc="-1" strike="noStrike">
                <a:solidFill>
                  <a:srgbClr val="ffffff"/>
                </a:solidFill>
                <a:latin typeface="Arial"/>
              </a:rPr>
              <a:t> (sluggishness and apathy, or calmness and composur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AIR</a:t>
            </a:r>
            <a:r>
              <a:rPr b="0" lang="en-US" sz="2800" spc="-1" strike="noStrike">
                <a:solidFill>
                  <a:srgbClr val="ffffff"/>
                </a:solidFill>
                <a:latin typeface="Arial"/>
              </a:rPr>
              <a:t>: Blood = </a:t>
            </a:r>
            <a:r>
              <a:rPr b="0" lang="en-US" sz="2800" spc="-1" strike="noStrike">
                <a:solidFill>
                  <a:srgbClr val="ff6600"/>
                </a:solidFill>
                <a:latin typeface="Arial"/>
              </a:rPr>
              <a:t>‘sanguine’</a:t>
            </a:r>
            <a:r>
              <a:rPr b="0" lang="en-US" sz="2800" spc="-1" strike="noStrike">
                <a:solidFill>
                  <a:srgbClr val="ffffff"/>
                </a:solidFill>
                <a:latin typeface="Arial"/>
              </a:rPr>
              <a:t> (cheerful, optimistic, hopeful, confiden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ARTH</a:t>
            </a:r>
            <a:r>
              <a:rPr b="0" lang="en-US" sz="2800" spc="-1" strike="noStrike">
                <a:solidFill>
                  <a:srgbClr val="ffffff"/>
                </a:solidFill>
                <a:latin typeface="Arial"/>
              </a:rPr>
              <a:t>: Choler (yellow bile) = </a:t>
            </a:r>
            <a:r>
              <a:rPr b="0" lang="en-US" sz="2800" spc="-1" strike="noStrike">
                <a:solidFill>
                  <a:srgbClr val="ff6600"/>
                </a:solidFill>
                <a:latin typeface="Arial"/>
              </a:rPr>
              <a:t>‘choleric’</a:t>
            </a:r>
            <a:r>
              <a:rPr b="0" lang="en-US" sz="2800" spc="-1" strike="noStrike">
                <a:solidFill>
                  <a:srgbClr val="ffffff"/>
                </a:solidFill>
                <a:latin typeface="Arial"/>
              </a:rPr>
              <a:t> (irritable, easily angered)</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8000"/>
          </a:bodyPr>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ery religious people in Elizabethan times. They believed strongly in the power of God, and God’s almighty rule over the universe.</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minant Church of England was Roman Catholic but some people were unhappy with the church and felt that it was corrupt.</a:t>
            </a:r>
            <a:endParaRPr b="0" lang="en-US" sz="2400" spc="-1" strike="noStrike">
              <a:solidFill>
                <a:srgbClr val="ffffff"/>
              </a:solidFill>
              <a:latin typeface="Arial"/>
            </a:endParaRPr>
          </a:p>
          <a:p>
            <a:pPr marL="444600" indent="-3452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formation took place where the unhappy group (Puritans) separated from the Catholic Church and formed their own church, called the Protestant Church.</a:t>
            </a:r>
            <a:endParaRPr b="0" lang="en-US" sz="2400" spc="-1" strike="noStrike">
              <a:solidFill>
                <a:srgbClr val="ffffff"/>
              </a:solidFill>
              <a:latin typeface="Arial"/>
            </a:endParaRPr>
          </a:p>
          <a:p>
            <a:pPr marL="44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urch and Religion</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ritans and Catholics fought in the name of religion. The Puritans wanted to cleanse (or purify) the remaining Catholic elements in England.</a:t>
            </a:r>
            <a:endParaRPr b="0" lang="en-US" sz="24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itans believed that many things were the work of the devil (sinful)</a:t>
            </a:r>
            <a:endParaRPr b="0" lang="en-US" sz="24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 clothes</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nk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ling</a:t>
            </a:r>
            <a:endParaRPr b="0" lang="en-US" sz="2000" spc="-1" strike="noStrike">
              <a:solidFill>
                <a:srgbClr val="ffffff"/>
              </a:solidFill>
              <a:latin typeface="Arial"/>
            </a:endParaRPr>
          </a:p>
          <a:p>
            <a:pPr lvl="1" marL="808560" indent="-308520">
              <a:lnSpc>
                <a:spcPct val="10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plays</a:t>
            </a:r>
            <a:endParaRPr b="0" lang="en-US" sz="2000" spc="-1" strike="noStrike">
              <a:solidFill>
                <a:srgbClr val="ffffff"/>
              </a:solidFill>
              <a:latin typeface="Arial"/>
            </a:endParaRPr>
          </a:p>
          <a:p>
            <a:pPr marL="399240" indent="-30996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time Shakespeare’s plays were being performed, they had relaxed slightly.</a:t>
            </a:r>
            <a:endParaRPr b="0" lang="en-US" sz="2400" spc="-1" strike="noStrike">
              <a:solidFill>
                <a:srgbClr val="ffffff"/>
              </a:solidFill>
              <a:latin typeface="Arial"/>
            </a:endParaRPr>
          </a:p>
          <a:p>
            <a:pPr marL="399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hain of Being</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people believed strongly in a ‘chain of being’. This gave order to their universe as everything had its own place.</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3:03:55Z</dcterms:created>
  <dc:creator>Ministry of Education</dc:creator>
  <dc:description/>
  <dc:language>en-US</dc:language>
  <cp:lastModifiedBy>Ministry of Education</cp:lastModifiedBy>
  <dcterms:modified xsi:type="dcterms:W3CDTF">2010-03-03T03:49:53Z</dcterms:modified>
  <cp:revision>4</cp:revision>
  <dc:subject/>
  <dc:title>Shakespeare’s World</dc:title>
</cp:coreProperties>
</file>